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B8A-FD2A-4733-9557-C51D2DBA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374-A99B-415E-BCA6-833B4157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CC6-E3D1-41CB-8FD1-AEAEBF1C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F6D-6863-457C-8DDB-807A9F37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EBE-7CDC-4945-ADE3-3B2F1F0A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AC0-20DA-4450-BC05-90FA412F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B7F-2CB1-4D44-8119-B2D10A4F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2D9-E649-4689-A55B-12AB5C36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A25-EC71-4E0F-925F-ADA5D4E0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15DA-3211-4B25-86CA-0AE430D4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659-7F50-45AF-BF81-C529173E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9A6-9488-4D43-9CEE-F483DA15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59CB-BC52-456A-B228-E70CB7C10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me what you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% of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price: $25  on sale for 20%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scou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ale pr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 Kenzi bought a book that cost $12.95.  There is 5% sales tax.  What is the total cost to buy the boo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find the percentage of increase and decr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find the percentage of increase and decr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</a:rPr>
              <a:t>Formul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two numbers to find the difference or the amount of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number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bbe0e3"/>
                </a:solidFill>
                <a:latin typeface="Arial"/>
              </a:rPr>
              <a:t>decr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the change by the original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e decimal point 2 places right to change it to a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295280" y="1828800"/>
          <a:ext cx="5181840" cy="12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518184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terday, Lauren’s plant was 16 inches tall.  Today it is 19 inches tall.  Find the percent of incr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salary went from $38,500 to $42,800, what was the percent of incr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44960" y="2044800"/>
            <a:ext cx="3849840" cy="617400"/>
          </a:xfrm>
          <a:custGeom>
            <a:avLst/>
            <a:gdLst/>
            <a:ahLst/>
            <a:rect l="l" t="t" r="r" b="b"/>
            <a:pathLst>
              <a:path w="10691" h="1713">
                <a:moveTo>
                  <a:pt x="18504" y="5779"/>
                </a:moveTo>
                <a:cubicBezTo>
                  <a:pt x="18536" y="5760"/>
                  <a:pt x="18570" y="5720"/>
                  <a:pt x="18604" y="5705"/>
                </a:cubicBezTo>
                <a:cubicBezTo>
                  <a:pt x="18646" y="5687"/>
                  <a:pt x="18703" y="5678"/>
                  <a:pt x="18752" y="5680"/>
                </a:cubicBezTo>
                <a:cubicBezTo>
                  <a:pt x="18798" y="5681"/>
                  <a:pt x="18851" y="5742"/>
                  <a:pt x="18901" y="5755"/>
                </a:cubicBezTo>
                <a:cubicBezTo>
                  <a:pt x="18950" y="5768"/>
                  <a:pt x="19001" y="5765"/>
                  <a:pt x="19050" y="5779"/>
                </a:cubicBezTo>
                <a:cubicBezTo>
                  <a:pt x="19117" y="5799"/>
                  <a:pt x="19179" y="5808"/>
                  <a:pt x="19248" y="5829"/>
                </a:cubicBezTo>
                <a:cubicBezTo>
                  <a:pt x="19360" y="5862"/>
                  <a:pt x="19462" y="5916"/>
                  <a:pt x="19571" y="5953"/>
                </a:cubicBezTo>
                <a:cubicBezTo>
                  <a:pt x="19721" y="6005"/>
                  <a:pt x="19885" y="6024"/>
                  <a:pt x="20042" y="6028"/>
                </a:cubicBezTo>
                <a:cubicBezTo>
                  <a:pt x="20169" y="6031"/>
                  <a:pt x="20290" y="6044"/>
                  <a:pt x="20414" y="6052"/>
                </a:cubicBezTo>
                <a:cubicBezTo>
                  <a:pt x="20583" y="6063"/>
                  <a:pt x="20743" y="6032"/>
                  <a:pt x="20910" y="6028"/>
                </a:cubicBezTo>
                <a:cubicBezTo>
                  <a:pt x="21033" y="6025"/>
                  <a:pt x="21109" y="6019"/>
                  <a:pt x="21233" y="6028"/>
                </a:cubicBezTo>
                <a:cubicBezTo>
                  <a:pt x="21421" y="6042"/>
                  <a:pt x="21592" y="6034"/>
                  <a:pt x="21779" y="6077"/>
                </a:cubicBezTo>
                <a:cubicBezTo>
                  <a:pt x="21915" y="6108"/>
                  <a:pt x="21883" y="6111"/>
                  <a:pt x="21903" y="6127"/>
                </a:cubicBezTo>
              </a:path>
              <a:path w="10691" h="1713">
                <a:moveTo>
                  <a:pt x="11237" y="7218"/>
                </a:moveTo>
                <a:cubicBezTo>
                  <a:pt x="11313" y="7206"/>
                  <a:pt x="11381" y="7196"/>
                  <a:pt x="11460" y="7193"/>
                </a:cubicBezTo>
                <a:cubicBezTo>
                  <a:pt x="11613" y="7188"/>
                  <a:pt x="11762" y="7205"/>
                  <a:pt x="11906" y="7218"/>
                </a:cubicBezTo>
                <a:cubicBezTo>
                  <a:pt x="12008" y="7227"/>
                  <a:pt x="12104" y="7257"/>
                  <a:pt x="12204" y="7268"/>
                </a:cubicBezTo>
                <a:cubicBezTo>
                  <a:pt x="12407" y="7291"/>
                  <a:pt x="12621" y="7275"/>
                  <a:pt x="12824" y="7293"/>
                </a:cubicBezTo>
                <a:cubicBezTo>
                  <a:pt x="12997" y="7308"/>
                  <a:pt x="13173" y="7301"/>
                  <a:pt x="13345" y="7317"/>
                </a:cubicBezTo>
                <a:cubicBezTo>
                  <a:pt x="14026" y="7379"/>
                  <a:pt x="14724" y="7285"/>
                  <a:pt x="15404" y="7342"/>
                </a:cubicBezTo>
                <a:cubicBezTo>
                  <a:pt x="15477" y="7348"/>
                  <a:pt x="15556" y="7350"/>
                  <a:pt x="15627" y="7367"/>
                </a:cubicBezTo>
                <a:cubicBezTo>
                  <a:pt x="15655" y="7367"/>
                  <a:pt x="15666" y="7369"/>
                  <a:pt x="15677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2660760"/>
            <a:ext cx="974520" cy="312480"/>
          </a:xfrm>
          <a:custGeom>
            <a:avLst/>
            <a:gdLst/>
            <a:ahLst/>
            <a:rect l="l" t="t" r="r" b="b"/>
            <a:pathLst>
              <a:path w="2705" h="869">
                <a:moveTo>
                  <a:pt x="15528" y="7441"/>
                </a:moveTo>
                <a:cubicBezTo>
                  <a:pt x="15499" y="7597"/>
                  <a:pt x="15467" y="7755"/>
                  <a:pt x="15453" y="7913"/>
                </a:cubicBezTo>
              </a:path>
              <a:path w="2705" h="869">
                <a:moveTo>
                  <a:pt x="16222" y="7441"/>
                </a:moveTo>
                <a:cubicBezTo>
                  <a:pt x="15983" y="7357"/>
                  <a:pt x="15915" y="7483"/>
                  <a:pt x="15825" y="7689"/>
                </a:cubicBezTo>
                <a:cubicBezTo>
                  <a:pt x="16047" y="7795"/>
                  <a:pt x="16157" y="7792"/>
                  <a:pt x="16297" y="7565"/>
                </a:cubicBezTo>
                <a:cubicBezTo>
                  <a:pt x="16297" y="7557"/>
                  <a:pt x="16297" y="7549"/>
                  <a:pt x="16297" y="7541"/>
                </a:cubicBezTo>
                <a:cubicBezTo>
                  <a:pt x="16377" y="7676"/>
                  <a:pt x="16328" y="7859"/>
                  <a:pt x="16321" y="8012"/>
                </a:cubicBezTo>
                <a:cubicBezTo>
                  <a:pt x="16321" y="8037"/>
                  <a:pt x="16321" y="8061"/>
                  <a:pt x="16321" y="8086"/>
                </a:cubicBezTo>
              </a:path>
              <a:path w="2705" h="869">
                <a:moveTo>
                  <a:pt x="16644" y="7764"/>
                </a:moveTo>
                <a:cubicBezTo>
                  <a:pt x="16751" y="7764"/>
                  <a:pt x="16842" y="7762"/>
                  <a:pt x="16942" y="7789"/>
                </a:cubicBezTo>
              </a:path>
              <a:path w="2705" h="869">
                <a:moveTo>
                  <a:pt x="17289" y="7516"/>
                </a:moveTo>
                <a:cubicBezTo>
                  <a:pt x="17309" y="7659"/>
                  <a:pt x="17248" y="7889"/>
                  <a:pt x="17289" y="8012"/>
                </a:cubicBezTo>
                <a:cubicBezTo>
                  <a:pt x="17297" y="8012"/>
                  <a:pt x="17306" y="8012"/>
                  <a:pt x="17314" y="8012"/>
                </a:cubicBezTo>
              </a:path>
              <a:path w="2705" h="869">
                <a:moveTo>
                  <a:pt x="17686" y="7466"/>
                </a:moveTo>
                <a:cubicBezTo>
                  <a:pt x="17663" y="7626"/>
                  <a:pt x="17608" y="7799"/>
                  <a:pt x="17611" y="7962"/>
                </a:cubicBezTo>
                <a:cubicBezTo>
                  <a:pt x="17615" y="8185"/>
                  <a:pt x="17828" y="8339"/>
                  <a:pt x="18033" y="8186"/>
                </a:cubicBezTo>
                <a:cubicBezTo>
                  <a:pt x="18138" y="8108"/>
                  <a:pt x="18156" y="7985"/>
                  <a:pt x="18132" y="7888"/>
                </a:cubicBezTo>
                <a:cubicBezTo>
                  <a:pt x="17939" y="8021"/>
                  <a:pt x="17866" y="8079"/>
                  <a:pt x="18008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24800" y="2759040"/>
            <a:ext cx="446040" cy="196920"/>
          </a:xfrm>
          <a:custGeom>
            <a:avLst/>
            <a:gdLst/>
            <a:ahLst/>
            <a:rect l="l" t="t" r="r" b="b"/>
            <a:pathLst>
              <a:path w="1241" h="546">
                <a:moveTo>
                  <a:pt x="18703" y="7838"/>
                </a:moveTo>
                <a:cubicBezTo>
                  <a:pt x="18813" y="7824"/>
                  <a:pt x="18890" y="7813"/>
                  <a:pt x="19000" y="7813"/>
                </a:cubicBezTo>
              </a:path>
              <a:path w="1241" h="546">
                <a:moveTo>
                  <a:pt x="18678" y="8037"/>
                </a:moveTo>
                <a:cubicBezTo>
                  <a:pt x="18830" y="8030"/>
                  <a:pt x="18973" y="8011"/>
                  <a:pt x="19124" y="7987"/>
                </a:cubicBezTo>
              </a:path>
              <a:path w="1241" h="546">
                <a:moveTo>
                  <a:pt x="19447" y="7714"/>
                </a:moveTo>
                <a:cubicBezTo>
                  <a:pt x="19560" y="7686"/>
                  <a:pt x="19701" y="7613"/>
                  <a:pt x="19819" y="7689"/>
                </a:cubicBezTo>
                <a:cubicBezTo>
                  <a:pt x="19939" y="7767"/>
                  <a:pt x="19668" y="7896"/>
                  <a:pt x="19645" y="7913"/>
                </a:cubicBezTo>
                <a:cubicBezTo>
                  <a:pt x="19605" y="7933"/>
                  <a:pt x="19599" y="7942"/>
                  <a:pt x="19571" y="7938"/>
                </a:cubicBezTo>
                <a:cubicBezTo>
                  <a:pt x="19761" y="7938"/>
                  <a:pt x="19801" y="7934"/>
                  <a:pt x="19918" y="8062"/>
                </a:cubicBezTo>
                <a:cubicBezTo>
                  <a:pt x="19829" y="8170"/>
                  <a:pt x="19665" y="8251"/>
                  <a:pt x="19496" y="8210"/>
                </a:cubicBezTo>
                <a:cubicBezTo>
                  <a:pt x="19496" y="8186"/>
                  <a:pt x="19496" y="8178"/>
                  <a:pt x="19472" y="81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75680" y="2705040"/>
            <a:ext cx="1455480" cy="331920"/>
          </a:xfrm>
          <a:custGeom>
            <a:avLst/>
            <a:gdLst/>
            <a:ahLst/>
            <a:rect l="l" t="t" r="r" b="b"/>
            <a:pathLst>
              <a:path w="4044" h="919">
                <a:moveTo>
                  <a:pt x="20489" y="7888"/>
                </a:moveTo>
                <a:cubicBezTo>
                  <a:pt x="20590" y="7888"/>
                  <a:pt x="20686" y="7870"/>
                  <a:pt x="20786" y="7863"/>
                </a:cubicBezTo>
              </a:path>
              <a:path w="4044" h="919">
                <a:moveTo>
                  <a:pt x="20489" y="8037"/>
                </a:moveTo>
                <a:cubicBezTo>
                  <a:pt x="20662" y="8012"/>
                  <a:pt x="20720" y="8004"/>
                  <a:pt x="20836" y="7987"/>
                </a:cubicBezTo>
              </a:path>
              <a:path w="4044" h="919">
                <a:moveTo>
                  <a:pt x="21481" y="7739"/>
                </a:moveTo>
                <a:cubicBezTo>
                  <a:pt x="21481" y="7609"/>
                  <a:pt x="21314" y="7676"/>
                  <a:pt x="21258" y="7739"/>
                </a:cubicBezTo>
                <a:cubicBezTo>
                  <a:pt x="20989" y="8039"/>
                  <a:pt x="21349" y="8231"/>
                  <a:pt x="21630" y="8062"/>
                </a:cubicBezTo>
                <a:cubicBezTo>
                  <a:pt x="21680" y="8004"/>
                  <a:pt x="21729" y="7946"/>
                  <a:pt x="21779" y="7888"/>
                </a:cubicBezTo>
              </a:path>
              <a:path w="4044" h="919">
                <a:moveTo>
                  <a:pt x="21779" y="7516"/>
                </a:moveTo>
                <a:cubicBezTo>
                  <a:pt x="21821" y="7774"/>
                  <a:pt x="21827" y="7834"/>
                  <a:pt x="21878" y="7987"/>
                </a:cubicBezTo>
                <a:cubicBezTo>
                  <a:pt x="21855" y="8149"/>
                  <a:pt x="21857" y="7806"/>
                  <a:pt x="21952" y="7714"/>
                </a:cubicBezTo>
                <a:cubicBezTo>
                  <a:pt x="22214" y="7458"/>
                  <a:pt x="22286" y="7915"/>
                  <a:pt x="22250" y="8086"/>
                </a:cubicBezTo>
                <a:cubicBezTo>
                  <a:pt x="22242" y="8094"/>
                  <a:pt x="22233" y="8103"/>
                  <a:pt x="22225" y="8111"/>
                </a:cubicBezTo>
              </a:path>
              <a:path w="4044" h="919">
                <a:moveTo>
                  <a:pt x="22671" y="7764"/>
                </a:moveTo>
                <a:cubicBezTo>
                  <a:pt x="22615" y="7577"/>
                  <a:pt x="22375" y="7718"/>
                  <a:pt x="22349" y="7888"/>
                </a:cubicBezTo>
                <a:cubicBezTo>
                  <a:pt x="22289" y="8273"/>
                  <a:pt x="22640" y="7960"/>
                  <a:pt x="22696" y="7838"/>
                </a:cubicBezTo>
                <a:cubicBezTo>
                  <a:pt x="22688" y="7830"/>
                  <a:pt x="22679" y="7821"/>
                  <a:pt x="22671" y="7813"/>
                </a:cubicBezTo>
                <a:cubicBezTo>
                  <a:pt x="22704" y="7993"/>
                  <a:pt x="22768" y="8077"/>
                  <a:pt x="22944" y="7938"/>
                </a:cubicBezTo>
                <a:cubicBezTo>
                  <a:pt x="22982" y="7881"/>
                  <a:pt x="22977" y="7856"/>
                  <a:pt x="23019" y="7863"/>
                </a:cubicBezTo>
                <a:cubicBezTo>
                  <a:pt x="22954" y="7981"/>
                  <a:pt x="22885" y="8011"/>
                  <a:pt x="22944" y="7813"/>
                </a:cubicBezTo>
                <a:cubicBezTo>
                  <a:pt x="23014" y="7675"/>
                  <a:pt x="23029" y="7629"/>
                  <a:pt x="23143" y="7615"/>
                </a:cubicBezTo>
                <a:cubicBezTo>
                  <a:pt x="23279" y="7767"/>
                  <a:pt x="23322" y="7851"/>
                  <a:pt x="23341" y="8062"/>
                </a:cubicBezTo>
              </a:path>
              <a:path w="4044" h="919">
                <a:moveTo>
                  <a:pt x="23738" y="7714"/>
                </a:moveTo>
                <a:cubicBezTo>
                  <a:pt x="23681" y="7738"/>
                  <a:pt x="23185" y="8070"/>
                  <a:pt x="23465" y="8086"/>
                </a:cubicBezTo>
                <a:cubicBezTo>
                  <a:pt x="23648" y="8096"/>
                  <a:pt x="23694" y="7913"/>
                  <a:pt x="23763" y="7789"/>
                </a:cubicBezTo>
                <a:cubicBezTo>
                  <a:pt x="23789" y="7970"/>
                  <a:pt x="23904" y="8252"/>
                  <a:pt x="23738" y="8409"/>
                </a:cubicBezTo>
                <a:cubicBezTo>
                  <a:pt x="23556" y="8581"/>
                  <a:pt x="23459" y="8293"/>
                  <a:pt x="23416" y="8210"/>
                </a:cubicBezTo>
              </a:path>
              <a:path w="4044" h="919">
                <a:moveTo>
                  <a:pt x="24135" y="7838"/>
                </a:moveTo>
                <a:cubicBezTo>
                  <a:pt x="24182" y="7825"/>
                  <a:pt x="24398" y="7766"/>
                  <a:pt x="24408" y="7714"/>
                </a:cubicBezTo>
                <a:cubicBezTo>
                  <a:pt x="24400" y="7698"/>
                  <a:pt x="24391" y="7681"/>
                  <a:pt x="24383" y="7665"/>
                </a:cubicBezTo>
                <a:cubicBezTo>
                  <a:pt x="24210" y="7694"/>
                  <a:pt x="23894" y="7825"/>
                  <a:pt x="24160" y="8037"/>
                </a:cubicBezTo>
                <a:cubicBezTo>
                  <a:pt x="24305" y="8152"/>
                  <a:pt x="24423" y="8121"/>
                  <a:pt x="24532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3017880"/>
            <a:ext cx="7823520" cy="723960"/>
          </a:xfrm>
          <a:custGeom>
            <a:avLst/>
            <a:gdLst/>
            <a:ahLst/>
            <a:rect l="l" t="t" r="r" b="b"/>
            <a:pathLst>
              <a:path w="21730" h="2010">
                <a:moveTo>
                  <a:pt x="3572" y="9227"/>
                </a:moveTo>
                <a:cubicBezTo>
                  <a:pt x="3555" y="9470"/>
                  <a:pt x="3470" y="9810"/>
                  <a:pt x="3497" y="10046"/>
                </a:cubicBezTo>
                <a:cubicBezTo>
                  <a:pt x="3505" y="10029"/>
                  <a:pt x="3514" y="10013"/>
                  <a:pt x="3522" y="9996"/>
                </a:cubicBezTo>
              </a:path>
              <a:path w="21730" h="2010">
                <a:moveTo>
                  <a:pt x="3299" y="9128"/>
                </a:moveTo>
                <a:cubicBezTo>
                  <a:pt x="3588" y="9128"/>
                  <a:pt x="4127" y="9076"/>
                  <a:pt x="4093" y="9525"/>
                </a:cubicBezTo>
                <a:cubicBezTo>
                  <a:pt x="4071" y="9817"/>
                  <a:pt x="3746" y="9661"/>
                  <a:pt x="3646" y="9575"/>
                </a:cubicBezTo>
              </a:path>
              <a:path w="21730" h="2010">
                <a:moveTo>
                  <a:pt x="4514" y="9475"/>
                </a:moveTo>
                <a:cubicBezTo>
                  <a:pt x="4566" y="9469"/>
                  <a:pt x="4813" y="9451"/>
                  <a:pt x="4762" y="9500"/>
                </a:cubicBezTo>
              </a:path>
              <a:path w="21730" h="2010">
                <a:moveTo>
                  <a:pt x="4415" y="9649"/>
                </a:moveTo>
                <a:cubicBezTo>
                  <a:pt x="4491" y="9687"/>
                  <a:pt x="4692" y="9693"/>
                  <a:pt x="4812" y="9699"/>
                </a:cubicBezTo>
                <a:cubicBezTo>
                  <a:pt x="4820" y="9699"/>
                  <a:pt x="4829" y="9699"/>
                  <a:pt x="4837" y="9699"/>
                </a:cubicBezTo>
              </a:path>
              <a:path w="21730" h="2010">
                <a:moveTo>
                  <a:pt x="6276" y="9054"/>
                </a:moveTo>
                <a:cubicBezTo>
                  <a:pt x="6361" y="9113"/>
                  <a:pt x="6252" y="8882"/>
                  <a:pt x="6251" y="8880"/>
                </a:cubicBezTo>
                <a:cubicBezTo>
                  <a:pt x="6084" y="8665"/>
                  <a:pt x="5829" y="9063"/>
                  <a:pt x="5829" y="9203"/>
                </a:cubicBezTo>
                <a:cubicBezTo>
                  <a:pt x="5829" y="9499"/>
                  <a:pt x="6244" y="9378"/>
                  <a:pt x="6400" y="9351"/>
                </a:cubicBezTo>
              </a:path>
              <a:path w="21730" h="2010">
                <a:moveTo>
                  <a:pt x="5556" y="9525"/>
                </a:moveTo>
                <a:cubicBezTo>
                  <a:pt x="5830" y="9543"/>
                  <a:pt x="6100" y="9599"/>
                  <a:pt x="6375" y="9624"/>
                </a:cubicBezTo>
                <a:cubicBezTo>
                  <a:pt x="6465" y="9632"/>
                  <a:pt x="6854" y="9632"/>
                  <a:pt x="6921" y="9699"/>
                </a:cubicBezTo>
              </a:path>
              <a:path w="21730" h="2010">
                <a:moveTo>
                  <a:pt x="6102" y="9971"/>
                </a:moveTo>
                <a:cubicBezTo>
                  <a:pt x="6014" y="9902"/>
                  <a:pt x="5926" y="9901"/>
                  <a:pt x="5829" y="9971"/>
                </a:cubicBezTo>
                <a:cubicBezTo>
                  <a:pt x="5710" y="10057"/>
                  <a:pt x="5589" y="10320"/>
                  <a:pt x="5804" y="10393"/>
                </a:cubicBezTo>
                <a:cubicBezTo>
                  <a:pt x="5967" y="10448"/>
                  <a:pt x="6262" y="10282"/>
                  <a:pt x="6226" y="10096"/>
                </a:cubicBezTo>
                <a:cubicBezTo>
                  <a:pt x="6211" y="10022"/>
                  <a:pt x="6085" y="9945"/>
                  <a:pt x="6028" y="9922"/>
                </a:cubicBezTo>
              </a:path>
              <a:path w="21730" h="2010">
                <a:moveTo>
                  <a:pt x="7565" y="9575"/>
                </a:moveTo>
                <a:cubicBezTo>
                  <a:pt x="7640" y="9564"/>
                  <a:pt x="7762" y="9499"/>
                  <a:pt x="7838" y="9525"/>
                </a:cubicBezTo>
                <a:cubicBezTo>
                  <a:pt x="7838" y="9533"/>
                  <a:pt x="7838" y="9542"/>
                  <a:pt x="7838" y="9550"/>
                </a:cubicBezTo>
              </a:path>
              <a:path w="21730" h="2010">
                <a:moveTo>
                  <a:pt x="7541" y="9823"/>
                </a:moveTo>
                <a:cubicBezTo>
                  <a:pt x="7685" y="9796"/>
                  <a:pt x="7821" y="9761"/>
                  <a:pt x="7962" y="9723"/>
                </a:cubicBezTo>
              </a:path>
              <a:path w="21730" h="2010">
                <a:moveTo>
                  <a:pt x="9575" y="8682"/>
                </a:moveTo>
                <a:cubicBezTo>
                  <a:pt x="9624" y="8599"/>
                  <a:pt x="9780" y="8486"/>
                  <a:pt x="9897" y="8533"/>
                </a:cubicBezTo>
                <a:cubicBezTo>
                  <a:pt x="9914" y="8558"/>
                  <a:pt x="9930" y="8582"/>
                  <a:pt x="9947" y="8607"/>
                </a:cubicBezTo>
                <a:cubicBezTo>
                  <a:pt x="9894" y="8727"/>
                  <a:pt x="9769" y="8809"/>
                  <a:pt x="9748" y="8830"/>
                </a:cubicBezTo>
                <a:cubicBezTo>
                  <a:pt x="9943" y="8853"/>
                  <a:pt x="9965" y="8821"/>
                  <a:pt x="10071" y="8979"/>
                </a:cubicBezTo>
                <a:cubicBezTo>
                  <a:pt x="9932" y="9087"/>
                  <a:pt x="9868" y="9146"/>
                  <a:pt x="9699" y="9103"/>
                </a:cubicBezTo>
                <a:cubicBezTo>
                  <a:pt x="9691" y="9103"/>
                  <a:pt x="9682" y="9103"/>
                  <a:pt x="9674" y="9103"/>
                </a:cubicBezTo>
              </a:path>
              <a:path w="21730" h="2010">
                <a:moveTo>
                  <a:pt x="8731" y="9426"/>
                </a:moveTo>
                <a:cubicBezTo>
                  <a:pt x="9327" y="9426"/>
                  <a:pt x="9921" y="9413"/>
                  <a:pt x="10517" y="9401"/>
                </a:cubicBezTo>
                <a:cubicBezTo>
                  <a:pt x="10806" y="9395"/>
                  <a:pt x="11096" y="9401"/>
                  <a:pt x="11385" y="9401"/>
                </a:cubicBezTo>
              </a:path>
              <a:path w="21730" h="2010">
                <a:moveTo>
                  <a:pt x="9699" y="9798"/>
                </a:moveTo>
                <a:cubicBezTo>
                  <a:pt x="9699" y="9809"/>
                  <a:pt x="9662" y="10069"/>
                  <a:pt x="9649" y="10170"/>
                </a:cubicBezTo>
                <a:cubicBezTo>
                  <a:pt x="9644" y="10210"/>
                  <a:pt x="9649" y="10254"/>
                  <a:pt x="9649" y="10294"/>
                </a:cubicBezTo>
              </a:path>
              <a:path w="21730" h="2010">
                <a:moveTo>
                  <a:pt x="9996" y="9699"/>
                </a:moveTo>
                <a:cubicBezTo>
                  <a:pt x="10021" y="9699"/>
                  <a:pt x="10029" y="9699"/>
                  <a:pt x="10021" y="9674"/>
                </a:cubicBezTo>
                <a:cubicBezTo>
                  <a:pt x="10021" y="9763"/>
                  <a:pt x="10015" y="9861"/>
                  <a:pt x="9996" y="9947"/>
                </a:cubicBezTo>
                <a:cubicBezTo>
                  <a:pt x="9981" y="10014"/>
                  <a:pt x="9951" y="10098"/>
                  <a:pt x="9971" y="10170"/>
                </a:cubicBezTo>
                <a:cubicBezTo>
                  <a:pt x="9997" y="10264"/>
                  <a:pt x="10112" y="10283"/>
                  <a:pt x="10195" y="10294"/>
                </a:cubicBezTo>
                <a:cubicBezTo>
                  <a:pt x="10259" y="10303"/>
                  <a:pt x="10446" y="10290"/>
                  <a:pt x="10492" y="10244"/>
                </a:cubicBezTo>
                <a:cubicBezTo>
                  <a:pt x="10514" y="10222"/>
                  <a:pt x="10562" y="10132"/>
                  <a:pt x="10542" y="10096"/>
                </a:cubicBezTo>
                <a:cubicBezTo>
                  <a:pt x="10522" y="10061"/>
                  <a:pt x="10431" y="9993"/>
                  <a:pt x="10393" y="9996"/>
                </a:cubicBezTo>
                <a:cubicBezTo>
                  <a:pt x="10305" y="10003"/>
                  <a:pt x="10239" y="10106"/>
                  <a:pt x="10220" y="10195"/>
                </a:cubicBezTo>
                <a:cubicBezTo>
                  <a:pt x="10210" y="10244"/>
                  <a:pt x="10208" y="10307"/>
                  <a:pt x="10244" y="10319"/>
                </a:cubicBezTo>
              </a:path>
              <a:path w="21730" h="2010">
                <a:moveTo>
                  <a:pt x="11956" y="9426"/>
                </a:moveTo>
                <a:cubicBezTo>
                  <a:pt x="12040" y="9426"/>
                  <a:pt x="12119" y="9404"/>
                  <a:pt x="12204" y="9401"/>
                </a:cubicBezTo>
                <a:cubicBezTo>
                  <a:pt x="12245" y="9401"/>
                  <a:pt x="12253" y="9401"/>
                  <a:pt x="12278" y="9401"/>
                </a:cubicBezTo>
              </a:path>
              <a:path w="21730" h="2010">
                <a:moveTo>
                  <a:pt x="12030" y="9624"/>
                </a:moveTo>
                <a:cubicBezTo>
                  <a:pt x="12121" y="9624"/>
                  <a:pt x="12212" y="9624"/>
                  <a:pt x="12303" y="9624"/>
                </a:cubicBezTo>
              </a:path>
              <a:path w="21730" h="2010">
                <a:moveTo>
                  <a:pt x="13419" y="9128"/>
                </a:moveTo>
                <a:cubicBezTo>
                  <a:pt x="13419" y="9025"/>
                  <a:pt x="13359" y="9099"/>
                  <a:pt x="13295" y="9178"/>
                </a:cubicBezTo>
                <a:cubicBezTo>
                  <a:pt x="13127" y="9385"/>
                  <a:pt x="13039" y="9577"/>
                  <a:pt x="13171" y="9798"/>
                </a:cubicBezTo>
                <a:cubicBezTo>
                  <a:pt x="13408" y="9710"/>
                  <a:pt x="13629" y="9619"/>
                  <a:pt x="13543" y="9302"/>
                </a:cubicBezTo>
                <a:cubicBezTo>
                  <a:pt x="13522" y="9223"/>
                  <a:pt x="13389" y="9106"/>
                  <a:pt x="13320" y="9079"/>
                </a:cubicBezTo>
              </a:path>
              <a:path w="21730" h="2010">
                <a:moveTo>
                  <a:pt x="13866" y="9723"/>
                </a:moveTo>
                <a:cubicBezTo>
                  <a:pt x="13820" y="9708"/>
                  <a:pt x="13863" y="9693"/>
                  <a:pt x="13816" y="9723"/>
                </a:cubicBezTo>
                <a:cubicBezTo>
                  <a:pt x="13853" y="9723"/>
                  <a:pt x="13929" y="9715"/>
                  <a:pt x="13891" y="9649"/>
                </a:cubicBezTo>
                <a:cubicBezTo>
                  <a:pt x="13883" y="9649"/>
                  <a:pt x="13874" y="9649"/>
                  <a:pt x="13866" y="9649"/>
                </a:cubicBezTo>
              </a:path>
              <a:path w="21730" h="2010">
                <a:moveTo>
                  <a:pt x="14436" y="9079"/>
                </a:moveTo>
                <a:cubicBezTo>
                  <a:pt x="14416" y="9038"/>
                  <a:pt x="14408" y="9032"/>
                  <a:pt x="14412" y="9004"/>
                </a:cubicBezTo>
                <a:cubicBezTo>
                  <a:pt x="14412" y="9209"/>
                  <a:pt x="14366" y="9457"/>
                  <a:pt x="14436" y="9649"/>
                </a:cubicBezTo>
              </a:path>
              <a:path w="21730" h="2010">
                <a:moveTo>
                  <a:pt x="15007" y="9054"/>
                </a:moveTo>
                <a:cubicBezTo>
                  <a:pt x="15054" y="9007"/>
                  <a:pt x="14783" y="9036"/>
                  <a:pt x="14734" y="9054"/>
                </a:cubicBezTo>
                <a:cubicBezTo>
                  <a:pt x="14709" y="9070"/>
                  <a:pt x="14685" y="9087"/>
                  <a:pt x="14660" y="9103"/>
                </a:cubicBezTo>
                <a:cubicBezTo>
                  <a:pt x="14767" y="9223"/>
                  <a:pt x="15084" y="9350"/>
                  <a:pt x="15056" y="9550"/>
                </a:cubicBezTo>
                <a:cubicBezTo>
                  <a:pt x="15037" y="9690"/>
                  <a:pt x="14830" y="9612"/>
                  <a:pt x="14759" y="9599"/>
                </a:cubicBezTo>
                <a:cubicBezTo>
                  <a:pt x="14820" y="9433"/>
                  <a:pt x="15015" y="9253"/>
                  <a:pt x="15032" y="9079"/>
                </a:cubicBezTo>
                <a:cubicBezTo>
                  <a:pt x="15024" y="9071"/>
                  <a:pt x="15015" y="9062"/>
                  <a:pt x="15007" y="9054"/>
                </a:cubicBezTo>
              </a:path>
              <a:path w="21730" h="2010">
                <a:moveTo>
                  <a:pt x="15354" y="9054"/>
                </a:moveTo>
                <a:cubicBezTo>
                  <a:pt x="15456" y="9023"/>
                  <a:pt x="15568" y="9014"/>
                  <a:pt x="15677" y="9004"/>
                </a:cubicBezTo>
                <a:cubicBezTo>
                  <a:pt x="15649" y="9170"/>
                  <a:pt x="15553" y="9316"/>
                  <a:pt x="15503" y="9475"/>
                </a:cubicBezTo>
                <a:cubicBezTo>
                  <a:pt x="15477" y="9559"/>
                  <a:pt x="15449" y="9606"/>
                  <a:pt x="15503" y="9624"/>
                </a:cubicBezTo>
              </a:path>
              <a:path w="21730" h="2010">
                <a:moveTo>
                  <a:pt x="16396" y="9004"/>
                </a:moveTo>
                <a:cubicBezTo>
                  <a:pt x="16380" y="8956"/>
                  <a:pt x="16254" y="8941"/>
                  <a:pt x="16197" y="8930"/>
                </a:cubicBezTo>
                <a:cubicBezTo>
                  <a:pt x="16108" y="8912"/>
                  <a:pt x="16099" y="9011"/>
                  <a:pt x="16073" y="9079"/>
                </a:cubicBezTo>
                <a:cubicBezTo>
                  <a:pt x="16054" y="9136"/>
                  <a:pt x="16046" y="9143"/>
                  <a:pt x="16049" y="9178"/>
                </a:cubicBezTo>
                <a:cubicBezTo>
                  <a:pt x="16128" y="9178"/>
                  <a:pt x="16193" y="9137"/>
                  <a:pt x="16272" y="9128"/>
                </a:cubicBezTo>
                <a:cubicBezTo>
                  <a:pt x="16408" y="9112"/>
                  <a:pt x="16606" y="9238"/>
                  <a:pt x="16520" y="9401"/>
                </a:cubicBezTo>
                <a:cubicBezTo>
                  <a:pt x="16422" y="9586"/>
                  <a:pt x="16210" y="9549"/>
                  <a:pt x="16049" y="9525"/>
                </a:cubicBezTo>
                <a:cubicBezTo>
                  <a:pt x="16041" y="9525"/>
                  <a:pt x="16032" y="9525"/>
                  <a:pt x="16024" y="9525"/>
                </a:cubicBezTo>
              </a:path>
              <a:path w="21730" h="2010">
                <a:moveTo>
                  <a:pt x="14709" y="9897"/>
                </a:moveTo>
                <a:cubicBezTo>
                  <a:pt x="14828" y="9849"/>
                  <a:pt x="14927" y="9847"/>
                  <a:pt x="15056" y="9847"/>
                </a:cubicBezTo>
                <a:cubicBezTo>
                  <a:pt x="15162" y="9847"/>
                  <a:pt x="15028" y="9828"/>
                  <a:pt x="14982" y="9823"/>
                </a:cubicBezTo>
                <a:cubicBezTo>
                  <a:pt x="14918" y="9816"/>
                  <a:pt x="14849" y="9823"/>
                  <a:pt x="14784" y="9823"/>
                </a:cubicBezTo>
                <a:cubicBezTo>
                  <a:pt x="14883" y="9823"/>
                  <a:pt x="14982" y="9823"/>
                  <a:pt x="15081" y="9823"/>
                </a:cubicBezTo>
                <a:cubicBezTo>
                  <a:pt x="15164" y="9823"/>
                  <a:pt x="15065" y="9823"/>
                  <a:pt x="14982" y="9823"/>
                </a:cubicBezTo>
                <a:cubicBezTo>
                  <a:pt x="14724" y="9823"/>
                  <a:pt x="15019" y="9823"/>
                  <a:pt x="15032" y="9823"/>
                </a:cubicBezTo>
                <a:cubicBezTo>
                  <a:pt x="15057" y="9823"/>
                  <a:pt x="15081" y="9823"/>
                  <a:pt x="15106" y="9823"/>
                </a:cubicBezTo>
                <a:cubicBezTo>
                  <a:pt x="15164" y="9823"/>
                  <a:pt x="15040" y="9823"/>
                  <a:pt x="14982" y="9823"/>
                </a:cubicBezTo>
                <a:cubicBezTo>
                  <a:pt x="14867" y="9823"/>
                  <a:pt x="14867" y="9823"/>
                  <a:pt x="14982" y="9823"/>
                </a:cubicBezTo>
                <a:cubicBezTo>
                  <a:pt x="15322" y="9823"/>
                  <a:pt x="14705" y="9823"/>
                  <a:pt x="14982" y="9823"/>
                </a:cubicBezTo>
                <a:cubicBezTo>
                  <a:pt x="15032" y="9823"/>
                  <a:pt x="15081" y="9823"/>
                  <a:pt x="15131" y="9823"/>
                </a:cubicBezTo>
              </a:path>
              <a:path w="21730" h="2010">
                <a:moveTo>
                  <a:pt x="17363" y="9178"/>
                </a:moveTo>
                <a:cubicBezTo>
                  <a:pt x="17456" y="9178"/>
                  <a:pt x="17542" y="9157"/>
                  <a:pt x="17636" y="9153"/>
                </a:cubicBezTo>
                <a:cubicBezTo>
                  <a:pt x="17732" y="9149"/>
                  <a:pt x="17702" y="9175"/>
                  <a:pt x="17686" y="9252"/>
                </a:cubicBezTo>
              </a:path>
              <a:path w="21730" h="2010">
                <a:moveTo>
                  <a:pt x="17413" y="9376"/>
                </a:moveTo>
                <a:cubicBezTo>
                  <a:pt x="17523" y="9362"/>
                  <a:pt x="17601" y="9351"/>
                  <a:pt x="17711" y="9351"/>
                </a:cubicBezTo>
              </a:path>
              <a:path w="21730" h="2010">
                <a:moveTo>
                  <a:pt x="18504" y="9599"/>
                </a:moveTo>
                <a:cubicBezTo>
                  <a:pt x="18504" y="9531"/>
                  <a:pt x="18500" y="9488"/>
                  <a:pt x="18479" y="9426"/>
                </a:cubicBezTo>
                <a:cubicBezTo>
                  <a:pt x="18441" y="9440"/>
                  <a:pt x="18293" y="9575"/>
                  <a:pt x="18430" y="9575"/>
                </a:cubicBezTo>
                <a:cubicBezTo>
                  <a:pt x="18495" y="9553"/>
                  <a:pt x="18520" y="9554"/>
                  <a:pt x="18504" y="9500"/>
                </a:cubicBezTo>
              </a:path>
              <a:path w="21730" h="2010">
                <a:moveTo>
                  <a:pt x="18926" y="8905"/>
                </a:moveTo>
                <a:cubicBezTo>
                  <a:pt x="18975" y="9085"/>
                  <a:pt x="18923" y="9261"/>
                  <a:pt x="18901" y="9451"/>
                </a:cubicBezTo>
                <a:cubicBezTo>
                  <a:pt x="18901" y="9492"/>
                  <a:pt x="18901" y="9516"/>
                  <a:pt x="18901" y="9475"/>
                </a:cubicBezTo>
              </a:path>
              <a:path w="21730" h="2010">
                <a:moveTo>
                  <a:pt x="19472" y="9103"/>
                </a:moveTo>
                <a:cubicBezTo>
                  <a:pt x="19531" y="9001"/>
                  <a:pt x="19591" y="8879"/>
                  <a:pt x="19422" y="8830"/>
                </a:cubicBezTo>
                <a:cubicBezTo>
                  <a:pt x="19243" y="8778"/>
                  <a:pt x="19189" y="8990"/>
                  <a:pt x="19199" y="9103"/>
                </a:cubicBezTo>
                <a:cubicBezTo>
                  <a:pt x="19355" y="9112"/>
                  <a:pt x="19478" y="9120"/>
                  <a:pt x="19571" y="8979"/>
                </a:cubicBezTo>
                <a:cubicBezTo>
                  <a:pt x="19571" y="9149"/>
                  <a:pt x="19537" y="9307"/>
                  <a:pt x="19521" y="9475"/>
                </a:cubicBezTo>
                <a:cubicBezTo>
                  <a:pt x="19521" y="9543"/>
                  <a:pt x="19527" y="9571"/>
                  <a:pt x="19472" y="9525"/>
                </a:cubicBezTo>
              </a:path>
              <a:path w="21730" h="2010">
                <a:moveTo>
                  <a:pt x="14734" y="9823"/>
                </a:moveTo>
                <a:cubicBezTo>
                  <a:pt x="14801" y="9806"/>
                  <a:pt x="14825" y="9820"/>
                  <a:pt x="14908" y="9823"/>
                </a:cubicBezTo>
                <a:cubicBezTo>
                  <a:pt x="14933" y="9823"/>
                  <a:pt x="14957" y="9823"/>
                  <a:pt x="14982" y="9823"/>
                </a:cubicBezTo>
                <a:cubicBezTo>
                  <a:pt x="14962" y="9881"/>
                  <a:pt x="14886" y="9830"/>
                  <a:pt x="14833" y="9823"/>
                </a:cubicBezTo>
                <a:cubicBezTo>
                  <a:pt x="14700" y="9805"/>
                  <a:pt x="15033" y="9823"/>
                  <a:pt x="15056" y="9823"/>
                </a:cubicBezTo>
                <a:cubicBezTo>
                  <a:pt x="15064" y="9823"/>
                  <a:pt x="15073" y="9823"/>
                  <a:pt x="15081" y="9823"/>
                </a:cubicBezTo>
                <a:cubicBezTo>
                  <a:pt x="15008" y="9823"/>
                  <a:pt x="14926" y="9821"/>
                  <a:pt x="14858" y="9798"/>
                </a:cubicBezTo>
                <a:cubicBezTo>
                  <a:pt x="14780" y="9772"/>
                  <a:pt x="15023" y="9798"/>
                  <a:pt x="15106" y="9798"/>
                </a:cubicBezTo>
                <a:cubicBezTo>
                  <a:pt x="15176" y="9798"/>
                  <a:pt x="14974" y="9798"/>
                  <a:pt x="14957" y="9798"/>
                </a:cubicBezTo>
                <a:cubicBezTo>
                  <a:pt x="14899" y="9798"/>
                  <a:pt x="15088" y="9828"/>
                  <a:pt x="15106" y="9773"/>
                </a:cubicBezTo>
              </a:path>
              <a:path w="21730" h="2010">
                <a:moveTo>
                  <a:pt x="20216" y="9128"/>
                </a:moveTo>
                <a:cubicBezTo>
                  <a:pt x="20287" y="9110"/>
                  <a:pt x="20355" y="9103"/>
                  <a:pt x="20439" y="9103"/>
                </a:cubicBezTo>
                <a:cubicBezTo>
                  <a:pt x="20447" y="9103"/>
                  <a:pt x="20456" y="9103"/>
                  <a:pt x="20464" y="9103"/>
                </a:cubicBezTo>
              </a:path>
              <a:path w="21730" h="2010">
                <a:moveTo>
                  <a:pt x="20241" y="9327"/>
                </a:moveTo>
                <a:cubicBezTo>
                  <a:pt x="20319" y="9327"/>
                  <a:pt x="20386" y="9347"/>
                  <a:pt x="20464" y="9351"/>
                </a:cubicBezTo>
                <a:cubicBezTo>
                  <a:pt x="20489" y="9351"/>
                  <a:pt x="20497" y="9351"/>
                  <a:pt x="20513" y="9351"/>
                </a:cubicBezTo>
              </a:path>
              <a:path w="21730" h="2010">
                <a:moveTo>
                  <a:pt x="21208" y="9029"/>
                </a:moveTo>
                <a:cubicBezTo>
                  <a:pt x="21208" y="9004"/>
                  <a:pt x="21208" y="8979"/>
                  <a:pt x="21208" y="8954"/>
                </a:cubicBezTo>
                <a:cubicBezTo>
                  <a:pt x="21238" y="9167"/>
                  <a:pt x="21183" y="9403"/>
                  <a:pt x="21158" y="9624"/>
                </a:cubicBezTo>
                <a:cubicBezTo>
                  <a:pt x="21152" y="9678"/>
                  <a:pt x="21141" y="9712"/>
                  <a:pt x="21183" y="9599"/>
                </a:cubicBezTo>
              </a:path>
              <a:path w="21730" h="2010">
                <a:moveTo>
                  <a:pt x="21803" y="9103"/>
                </a:moveTo>
                <a:cubicBezTo>
                  <a:pt x="21778" y="8988"/>
                  <a:pt x="21656" y="8900"/>
                  <a:pt x="21530" y="9004"/>
                </a:cubicBezTo>
                <a:cubicBezTo>
                  <a:pt x="21463" y="9116"/>
                  <a:pt x="21442" y="9144"/>
                  <a:pt x="21431" y="9227"/>
                </a:cubicBezTo>
                <a:cubicBezTo>
                  <a:pt x="21578" y="9338"/>
                  <a:pt x="21681" y="9321"/>
                  <a:pt x="21803" y="9153"/>
                </a:cubicBezTo>
                <a:cubicBezTo>
                  <a:pt x="21823" y="9113"/>
                  <a:pt x="21832" y="9106"/>
                  <a:pt x="21828" y="9079"/>
                </a:cubicBezTo>
                <a:cubicBezTo>
                  <a:pt x="21760" y="9270"/>
                  <a:pt x="21714" y="9473"/>
                  <a:pt x="21679" y="9674"/>
                </a:cubicBezTo>
                <a:cubicBezTo>
                  <a:pt x="21679" y="9699"/>
                  <a:pt x="21679" y="9707"/>
                  <a:pt x="21679" y="9674"/>
                </a:cubicBezTo>
              </a:path>
              <a:path w="21730" h="2010">
                <a:moveTo>
                  <a:pt x="22175" y="8905"/>
                </a:moveTo>
                <a:cubicBezTo>
                  <a:pt x="22133" y="8933"/>
                  <a:pt x="21967" y="9076"/>
                  <a:pt x="22051" y="9153"/>
                </a:cubicBezTo>
                <a:cubicBezTo>
                  <a:pt x="22068" y="9153"/>
                  <a:pt x="22084" y="9153"/>
                  <a:pt x="22101" y="9153"/>
                </a:cubicBezTo>
                <a:cubicBezTo>
                  <a:pt x="22295" y="9070"/>
                  <a:pt x="22246" y="9049"/>
                  <a:pt x="22151" y="8905"/>
                </a:cubicBezTo>
                <a:cubicBezTo>
                  <a:pt x="22151" y="8880"/>
                  <a:pt x="22151" y="8872"/>
                  <a:pt x="22151" y="8855"/>
                </a:cubicBezTo>
                <a:cubicBezTo>
                  <a:pt x="22363" y="8842"/>
                  <a:pt x="22450" y="8915"/>
                  <a:pt x="22399" y="9153"/>
                </a:cubicBezTo>
                <a:cubicBezTo>
                  <a:pt x="22355" y="9359"/>
                  <a:pt x="22242" y="9575"/>
                  <a:pt x="22126" y="9748"/>
                </a:cubicBezTo>
              </a:path>
              <a:path w="21730" h="2010">
                <a:moveTo>
                  <a:pt x="22473" y="9525"/>
                </a:moveTo>
                <a:cubicBezTo>
                  <a:pt x="22438" y="9628"/>
                  <a:pt x="22456" y="9823"/>
                  <a:pt x="22597" y="9649"/>
                </a:cubicBezTo>
                <a:cubicBezTo>
                  <a:pt x="22680" y="9547"/>
                  <a:pt x="22592" y="9548"/>
                  <a:pt x="22523" y="9525"/>
                </a:cubicBezTo>
              </a:path>
              <a:path w="21730" h="2010">
                <a:moveTo>
                  <a:pt x="23068" y="9302"/>
                </a:moveTo>
                <a:cubicBezTo>
                  <a:pt x="23068" y="9277"/>
                  <a:pt x="23068" y="9269"/>
                  <a:pt x="23068" y="9252"/>
                </a:cubicBezTo>
                <a:cubicBezTo>
                  <a:pt x="23068" y="9345"/>
                  <a:pt x="23088" y="9433"/>
                  <a:pt x="23093" y="9525"/>
                </a:cubicBezTo>
                <a:cubicBezTo>
                  <a:pt x="23093" y="9533"/>
                  <a:pt x="23093" y="9542"/>
                  <a:pt x="23093" y="9550"/>
                </a:cubicBezTo>
              </a:path>
              <a:path w="21730" h="2010">
                <a:moveTo>
                  <a:pt x="22994" y="8954"/>
                </a:moveTo>
                <a:cubicBezTo>
                  <a:pt x="22994" y="8946"/>
                  <a:pt x="22994" y="8938"/>
                  <a:pt x="22994" y="8930"/>
                </a:cubicBezTo>
              </a:path>
              <a:path w="21730" h="2010">
                <a:moveTo>
                  <a:pt x="23391" y="9277"/>
                </a:moveTo>
                <a:cubicBezTo>
                  <a:pt x="23407" y="9358"/>
                  <a:pt x="23440" y="9443"/>
                  <a:pt x="23465" y="9525"/>
                </a:cubicBezTo>
                <a:cubicBezTo>
                  <a:pt x="23447" y="9417"/>
                  <a:pt x="23428" y="9337"/>
                  <a:pt x="23465" y="9227"/>
                </a:cubicBezTo>
                <a:cubicBezTo>
                  <a:pt x="23501" y="9122"/>
                  <a:pt x="23713" y="9106"/>
                  <a:pt x="23788" y="9178"/>
                </a:cubicBezTo>
                <a:cubicBezTo>
                  <a:pt x="23853" y="9241"/>
                  <a:pt x="23846" y="9371"/>
                  <a:pt x="23862" y="9451"/>
                </a:cubicBezTo>
              </a:path>
              <a:path w="21730" h="2010">
                <a:moveTo>
                  <a:pt x="24209" y="9128"/>
                </a:moveTo>
                <a:cubicBezTo>
                  <a:pt x="24260" y="9128"/>
                  <a:pt x="24159" y="9115"/>
                  <a:pt x="24110" y="9103"/>
                </a:cubicBezTo>
                <a:cubicBezTo>
                  <a:pt x="24079" y="9230"/>
                  <a:pt x="24003" y="9386"/>
                  <a:pt x="24160" y="9475"/>
                </a:cubicBezTo>
                <a:cubicBezTo>
                  <a:pt x="24268" y="9497"/>
                  <a:pt x="24294" y="9510"/>
                  <a:pt x="24358" y="9475"/>
                </a:cubicBezTo>
              </a:path>
              <a:path w="21730" h="2010">
                <a:moveTo>
                  <a:pt x="24631" y="9376"/>
                </a:moveTo>
                <a:cubicBezTo>
                  <a:pt x="24654" y="9399"/>
                  <a:pt x="24665" y="9407"/>
                  <a:pt x="24631" y="9401"/>
                </a:cubicBezTo>
              </a:path>
              <a:path w="21730" h="2010">
                <a:moveTo>
                  <a:pt x="21183" y="10046"/>
                </a:moveTo>
                <a:cubicBezTo>
                  <a:pt x="21309" y="10028"/>
                  <a:pt x="21682" y="9975"/>
                  <a:pt x="21828" y="9971"/>
                </a:cubicBezTo>
                <a:cubicBezTo>
                  <a:pt x="22528" y="9951"/>
                  <a:pt x="23244" y="9972"/>
                  <a:pt x="23937" y="9872"/>
                </a:cubicBezTo>
                <a:cubicBezTo>
                  <a:pt x="24169" y="9838"/>
                  <a:pt x="24373" y="9823"/>
                  <a:pt x="24606" y="9823"/>
                </a:cubicBezTo>
                <a:cubicBezTo>
                  <a:pt x="24715" y="9823"/>
                  <a:pt x="24856" y="9792"/>
                  <a:pt x="24954" y="9798"/>
                </a:cubicBezTo>
                <a:cubicBezTo>
                  <a:pt x="24972" y="9799"/>
                  <a:pt x="24997" y="9823"/>
                  <a:pt x="25028" y="9823"/>
                </a:cubicBezTo>
                <a:cubicBezTo>
                  <a:pt x="24997" y="9686"/>
                  <a:pt x="24964" y="9543"/>
                  <a:pt x="24954" y="9401"/>
                </a:cubicBezTo>
                <a:cubicBezTo>
                  <a:pt x="24940" y="9201"/>
                  <a:pt x="24895" y="9006"/>
                  <a:pt x="24879" y="8806"/>
                </a:cubicBezTo>
                <a:cubicBezTo>
                  <a:pt x="24873" y="8739"/>
                  <a:pt x="24915" y="8564"/>
                  <a:pt x="24854" y="8508"/>
                </a:cubicBezTo>
                <a:cubicBezTo>
                  <a:pt x="24796" y="8455"/>
                  <a:pt x="24632" y="8424"/>
                  <a:pt x="24557" y="8409"/>
                </a:cubicBezTo>
                <a:cubicBezTo>
                  <a:pt x="24379" y="8372"/>
                  <a:pt x="24168" y="8367"/>
                  <a:pt x="23986" y="8384"/>
                </a:cubicBezTo>
                <a:cubicBezTo>
                  <a:pt x="23770" y="8405"/>
                  <a:pt x="23560" y="8409"/>
                  <a:pt x="23341" y="8409"/>
                </a:cubicBezTo>
                <a:cubicBezTo>
                  <a:pt x="23182" y="8409"/>
                  <a:pt x="23026" y="8412"/>
                  <a:pt x="22870" y="8434"/>
                </a:cubicBezTo>
                <a:cubicBezTo>
                  <a:pt x="22653" y="8465"/>
                  <a:pt x="22443" y="8483"/>
                  <a:pt x="22225" y="8508"/>
                </a:cubicBezTo>
                <a:cubicBezTo>
                  <a:pt x="21851" y="8551"/>
                  <a:pt x="21477" y="8604"/>
                  <a:pt x="21109" y="8682"/>
                </a:cubicBezTo>
                <a:cubicBezTo>
                  <a:pt x="21021" y="8701"/>
                  <a:pt x="20951" y="8702"/>
                  <a:pt x="20861" y="8706"/>
                </a:cubicBezTo>
                <a:cubicBezTo>
                  <a:pt x="20853" y="8854"/>
                  <a:pt x="20849" y="9005"/>
                  <a:pt x="20836" y="9153"/>
                </a:cubicBezTo>
                <a:cubicBezTo>
                  <a:pt x="20815" y="9396"/>
                  <a:pt x="20818" y="9616"/>
                  <a:pt x="20836" y="9847"/>
                </a:cubicBezTo>
                <a:cubicBezTo>
                  <a:pt x="20841" y="9912"/>
                  <a:pt x="20836" y="9980"/>
                  <a:pt x="20836" y="10046"/>
                </a:cubicBezTo>
                <a:cubicBezTo>
                  <a:pt x="20989" y="10059"/>
                  <a:pt x="21103" y="10041"/>
                  <a:pt x="21258" y="10021"/>
                </a:cubicBezTo>
                <a:cubicBezTo>
                  <a:pt x="21274" y="10021"/>
                  <a:pt x="21291" y="10021"/>
                  <a:pt x="21307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8160" y="5224320"/>
            <a:ext cx="1339920" cy="98640"/>
          </a:xfrm>
          <a:custGeom>
            <a:avLst/>
            <a:gdLst/>
            <a:ahLst/>
            <a:rect l="l" t="t" r="r" b="b"/>
            <a:pathLst>
              <a:path w="3722" h="274">
                <a:moveTo>
                  <a:pt x="3845" y="14635"/>
                </a:moveTo>
                <a:cubicBezTo>
                  <a:pt x="3909" y="14662"/>
                  <a:pt x="3994" y="14731"/>
                  <a:pt x="4068" y="14709"/>
                </a:cubicBezTo>
                <a:cubicBezTo>
                  <a:pt x="4202" y="14670"/>
                  <a:pt x="4251" y="14532"/>
                  <a:pt x="4390" y="14635"/>
                </a:cubicBezTo>
                <a:cubicBezTo>
                  <a:pt x="4500" y="14716"/>
                  <a:pt x="4550" y="14846"/>
                  <a:pt x="4663" y="14734"/>
                </a:cubicBezTo>
                <a:cubicBezTo>
                  <a:pt x="4830" y="14568"/>
                  <a:pt x="4798" y="14700"/>
                  <a:pt x="4961" y="14759"/>
                </a:cubicBezTo>
                <a:cubicBezTo>
                  <a:pt x="5092" y="14806"/>
                  <a:pt x="5240" y="14618"/>
                  <a:pt x="5383" y="14635"/>
                </a:cubicBezTo>
                <a:cubicBezTo>
                  <a:pt x="5591" y="14660"/>
                  <a:pt x="5521" y="14700"/>
                  <a:pt x="5705" y="14585"/>
                </a:cubicBezTo>
                <a:cubicBezTo>
                  <a:pt x="5839" y="14501"/>
                  <a:pt x="5956" y="14564"/>
                  <a:pt x="6102" y="14536"/>
                </a:cubicBezTo>
                <a:cubicBezTo>
                  <a:pt x="6147" y="14527"/>
                  <a:pt x="6199" y="14488"/>
                  <a:pt x="6251" y="14511"/>
                </a:cubicBezTo>
                <a:cubicBezTo>
                  <a:pt x="6276" y="14527"/>
                  <a:pt x="6300" y="14544"/>
                  <a:pt x="6325" y="14560"/>
                </a:cubicBezTo>
              </a:path>
              <a:path w="3722" h="274">
                <a:moveTo>
                  <a:pt x="2604" y="14536"/>
                </a:moveTo>
                <a:cubicBezTo>
                  <a:pt x="2641" y="14588"/>
                  <a:pt x="2717" y="14759"/>
                  <a:pt x="2803" y="14759"/>
                </a:cubicBezTo>
                <a:cubicBezTo>
                  <a:pt x="2961" y="14759"/>
                  <a:pt x="2915" y="14480"/>
                  <a:pt x="3076" y="14511"/>
                </a:cubicBezTo>
                <a:cubicBezTo>
                  <a:pt x="3218" y="14538"/>
                  <a:pt x="3247" y="14631"/>
                  <a:pt x="3398" y="14585"/>
                </a:cubicBezTo>
                <a:cubicBezTo>
                  <a:pt x="3585" y="14528"/>
                  <a:pt x="3639" y="14495"/>
                  <a:pt x="3820" y="14585"/>
                </a:cubicBezTo>
                <a:cubicBezTo>
                  <a:pt x="3941" y="14645"/>
                  <a:pt x="3938" y="14631"/>
                  <a:pt x="4043" y="145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70160" y="5106960"/>
            <a:ext cx="1081080" cy="358920"/>
          </a:xfrm>
          <a:custGeom>
            <a:avLst/>
            <a:gdLst/>
            <a:ahLst/>
            <a:rect l="l" t="t" r="r" b="b"/>
            <a:pathLst>
              <a:path w="3002" h="993">
                <a:moveTo>
                  <a:pt x="8930" y="14288"/>
                </a:moveTo>
                <a:cubicBezTo>
                  <a:pt x="8911" y="14439"/>
                  <a:pt x="8864" y="14570"/>
                  <a:pt x="8806" y="14709"/>
                </a:cubicBezTo>
                <a:cubicBezTo>
                  <a:pt x="8960" y="14692"/>
                  <a:pt x="9100" y="14594"/>
                  <a:pt x="9252" y="14610"/>
                </a:cubicBezTo>
                <a:cubicBezTo>
                  <a:pt x="9252" y="14635"/>
                  <a:pt x="9252" y="14643"/>
                  <a:pt x="9252" y="14660"/>
                </a:cubicBezTo>
              </a:path>
              <a:path w="3002" h="993">
                <a:moveTo>
                  <a:pt x="9227" y="14188"/>
                </a:moveTo>
                <a:cubicBezTo>
                  <a:pt x="9191" y="14462"/>
                  <a:pt x="9140" y="14730"/>
                  <a:pt x="9128" y="15007"/>
                </a:cubicBezTo>
              </a:path>
              <a:path w="3002" h="993">
                <a:moveTo>
                  <a:pt x="9525" y="14337"/>
                </a:moveTo>
                <a:cubicBezTo>
                  <a:pt x="9788" y="14425"/>
                  <a:pt x="9907" y="14545"/>
                  <a:pt x="9723" y="14833"/>
                </a:cubicBezTo>
                <a:cubicBezTo>
                  <a:pt x="9587" y="14970"/>
                  <a:pt x="9555" y="15014"/>
                  <a:pt x="9426" y="15032"/>
                </a:cubicBezTo>
                <a:cubicBezTo>
                  <a:pt x="9426" y="14865"/>
                  <a:pt x="9572" y="14664"/>
                  <a:pt x="9748" y="14858"/>
                </a:cubicBezTo>
                <a:cubicBezTo>
                  <a:pt x="9794" y="14972"/>
                  <a:pt x="9813" y="15003"/>
                  <a:pt x="9773" y="15081"/>
                </a:cubicBezTo>
              </a:path>
              <a:path w="3002" h="993">
                <a:moveTo>
                  <a:pt x="9996" y="15106"/>
                </a:moveTo>
                <a:cubicBezTo>
                  <a:pt x="9973" y="15173"/>
                  <a:pt x="9958" y="15201"/>
                  <a:pt x="10021" y="15156"/>
                </a:cubicBezTo>
              </a:path>
              <a:path w="3002" h="993">
                <a:moveTo>
                  <a:pt x="10393" y="14486"/>
                </a:moveTo>
                <a:cubicBezTo>
                  <a:pt x="10368" y="14511"/>
                  <a:pt x="10344" y="14535"/>
                  <a:pt x="10319" y="14560"/>
                </a:cubicBezTo>
                <a:cubicBezTo>
                  <a:pt x="10379" y="14614"/>
                  <a:pt x="10697" y="14712"/>
                  <a:pt x="10641" y="14858"/>
                </a:cubicBezTo>
                <a:cubicBezTo>
                  <a:pt x="10542" y="14932"/>
                  <a:pt x="10509" y="14957"/>
                  <a:pt x="10418" y="14932"/>
                </a:cubicBezTo>
                <a:cubicBezTo>
                  <a:pt x="10463" y="14762"/>
                  <a:pt x="10535" y="14666"/>
                  <a:pt x="10666" y="14536"/>
                </a:cubicBezTo>
              </a:path>
              <a:path w="3002" h="993">
                <a:moveTo>
                  <a:pt x="10914" y="14436"/>
                </a:moveTo>
                <a:cubicBezTo>
                  <a:pt x="10816" y="14612"/>
                  <a:pt x="10769" y="14650"/>
                  <a:pt x="10815" y="14833"/>
                </a:cubicBezTo>
                <a:cubicBezTo>
                  <a:pt x="10947" y="14813"/>
                  <a:pt x="11281" y="14706"/>
                  <a:pt x="11112" y="14486"/>
                </a:cubicBezTo>
                <a:cubicBezTo>
                  <a:pt x="11059" y="14417"/>
                  <a:pt x="10975" y="14449"/>
                  <a:pt x="10914" y="14511"/>
                </a:cubicBezTo>
              </a:path>
              <a:path w="3002" h="993">
                <a:moveTo>
                  <a:pt x="11385" y="14585"/>
                </a:moveTo>
                <a:cubicBezTo>
                  <a:pt x="11296" y="14764"/>
                  <a:pt x="11256" y="14810"/>
                  <a:pt x="11336" y="14932"/>
                </a:cubicBezTo>
                <a:cubicBezTo>
                  <a:pt x="11456" y="14948"/>
                  <a:pt x="12004" y="14890"/>
                  <a:pt x="11782" y="14610"/>
                </a:cubicBezTo>
                <a:cubicBezTo>
                  <a:pt x="11620" y="14556"/>
                  <a:pt x="11557" y="14539"/>
                  <a:pt x="11435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7040" y="5589720"/>
            <a:ext cx="71280" cy="9360"/>
          </a:xfrm>
          <a:custGeom>
            <a:avLst/>
            <a:gdLst/>
            <a:ahLst/>
            <a:rect l="l" t="t" r="r" b="b"/>
            <a:pathLst>
              <a:path w="200" h="26">
                <a:moveTo>
                  <a:pt x="7962" y="15553"/>
                </a:moveTo>
                <a:cubicBezTo>
                  <a:pt x="8054" y="15553"/>
                  <a:pt x="8096" y="15550"/>
                  <a:pt x="8161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60800" y="5527800"/>
            <a:ext cx="1046160" cy="258480"/>
          </a:xfrm>
          <a:custGeom>
            <a:avLst/>
            <a:gdLst/>
            <a:ahLst/>
            <a:rect l="l" t="t" r="r" b="b"/>
            <a:pathLst>
              <a:path w="2903" h="720">
                <a:moveTo>
                  <a:pt x="8781" y="15429"/>
                </a:moveTo>
                <a:cubicBezTo>
                  <a:pt x="8859" y="15374"/>
                  <a:pt x="9073" y="15274"/>
                  <a:pt x="9054" y="15478"/>
                </a:cubicBezTo>
                <a:cubicBezTo>
                  <a:pt x="9007" y="15571"/>
                  <a:pt x="8997" y="15600"/>
                  <a:pt x="8930" y="15627"/>
                </a:cubicBezTo>
                <a:cubicBezTo>
                  <a:pt x="9066" y="15607"/>
                  <a:pt x="9069" y="15614"/>
                  <a:pt x="9227" y="15627"/>
                </a:cubicBezTo>
                <a:cubicBezTo>
                  <a:pt x="9217" y="15815"/>
                  <a:pt x="9087" y="16037"/>
                  <a:pt x="8830" y="15949"/>
                </a:cubicBezTo>
                <a:cubicBezTo>
                  <a:pt x="8814" y="15924"/>
                  <a:pt x="8797" y="15900"/>
                  <a:pt x="8781" y="15875"/>
                </a:cubicBezTo>
              </a:path>
              <a:path w="2903" h="720">
                <a:moveTo>
                  <a:pt x="9599" y="15429"/>
                </a:moveTo>
                <a:cubicBezTo>
                  <a:pt x="9392" y="15557"/>
                  <a:pt x="9303" y="15603"/>
                  <a:pt x="9550" y="15751"/>
                </a:cubicBezTo>
                <a:cubicBezTo>
                  <a:pt x="9632" y="15793"/>
                  <a:pt x="9674" y="15793"/>
                  <a:pt x="9624" y="15850"/>
                </a:cubicBezTo>
                <a:cubicBezTo>
                  <a:pt x="9591" y="15858"/>
                  <a:pt x="9558" y="15867"/>
                  <a:pt x="9525" y="15875"/>
                </a:cubicBezTo>
                <a:cubicBezTo>
                  <a:pt x="9469" y="15753"/>
                  <a:pt x="9492" y="15647"/>
                  <a:pt x="9624" y="15553"/>
                </a:cubicBezTo>
                <a:cubicBezTo>
                  <a:pt x="9632" y="15553"/>
                  <a:pt x="9641" y="15553"/>
                  <a:pt x="9649" y="15553"/>
                </a:cubicBezTo>
              </a:path>
              <a:path w="2903" h="720">
                <a:moveTo>
                  <a:pt x="9922" y="16049"/>
                </a:moveTo>
                <a:cubicBezTo>
                  <a:pt x="9922" y="16057"/>
                  <a:pt x="9922" y="16065"/>
                  <a:pt x="9922" y="16073"/>
                </a:cubicBezTo>
              </a:path>
              <a:path w="2903" h="720">
                <a:moveTo>
                  <a:pt x="10567" y="15379"/>
                </a:moveTo>
                <a:cubicBezTo>
                  <a:pt x="10494" y="15409"/>
                  <a:pt x="10400" y="15438"/>
                  <a:pt x="10368" y="15503"/>
                </a:cubicBezTo>
                <a:cubicBezTo>
                  <a:pt x="10482" y="15597"/>
                  <a:pt x="10608" y="15533"/>
                  <a:pt x="10716" y="15627"/>
                </a:cubicBezTo>
                <a:cubicBezTo>
                  <a:pt x="10931" y="15814"/>
                  <a:pt x="10454" y="15866"/>
                  <a:pt x="10368" y="15850"/>
                </a:cubicBezTo>
                <a:cubicBezTo>
                  <a:pt x="10253" y="15805"/>
                  <a:pt x="10210" y="15798"/>
                  <a:pt x="10269" y="15701"/>
                </a:cubicBezTo>
              </a:path>
              <a:path w="2903" h="720">
                <a:moveTo>
                  <a:pt x="10964" y="15453"/>
                </a:moveTo>
                <a:cubicBezTo>
                  <a:pt x="10889" y="15558"/>
                  <a:pt x="10874" y="15593"/>
                  <a:pt x="10864" y="15726"/>
                </a:cubicBezTo>
                <a:cubicBezTo>
                  <a:pt x="10996" y="15734"/>
                  <a:pt x="11282" y="15691"/>
                  <a:pt x="11112" y="15478"/>
                </a:cubicBezTo>
                <a:cubicBezTo>
                  <a:pt x="11077" y="15435"/>
                  <a:pt x="10798" y="15416"/>
                  <a:pt x="10988" y="15453"/>
                </a:cubicBezTo>
              </a:path>
              <a:path w="2903" h="720">
                <a:moveTo>
                  <a:pt x="11385" y="15478"/>
                </a:moveTo>
                <a:cubicBezTo>
                  <a:pt x="11380" y="15580"/>
                  <a:pt x="11387" y="15897"/>
                  <a:pt x="11609" y="15776"/>
                </a:cubicBezTo>
                <a:cubicBezTo>
                  <a:pt x="11678" y="15683"/>
                  <a:pt x="11703" y="15658"/>
                  <a:pt x="11683" y="15577"/>
                </a:cubicBezTo>
                <a:cubicBezTo>
                  <a:pt x="11493" y="15530"/>
                  <a:pt x="11387" y="15559"/>
                  <a:pt x="11187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09960" y="5749920"/>
            <a:ext cx="1177920" cy="393840"/>
          </a:xfrm>
          <a:custGeom>
            <a:avLst/>
            <a:gdLst/>
            <a:ahLst/>
            <a:rect l="l" t="t" r="r" b="b"/>
            <a:pathLst>
              <a:path w="3275" h="1093">
                <a:moveTo>
                  <a:pt x="8359" y="16247"/>
                </a:moveTo>
                <a:cubicBezTo>
                  <a:pt x="8571" y="16197"/>
                  <a:pt x="8782" y="16194"/>
                  <a:pt x="9004" y="16173"/>
                </a:cubicBezTo>
                <a:cubicBezTo>
                  <a:pt x="9714" y="16106"/>
                  <a:pt x="10426" y="16062"/>
                  <a:pt x="11137" y="15999"/>
                </a:cubicBezTo>
                <a:cubicBezTo>
                  <a:pt x="11339" y="15981"/>
                  <a:pt x="11450" y="15989"/>
                  <a:pt x="11609" y="15999"/>
                </a:cubicBezTo>
              </a:path>
              <a:path w="3275" h="1093">
                <a:moveTo>
                  <a:pt x="9426" y="16446"/>
                </a:moveTo>
                <a:cubicBezTo>
                  <a:pt x="9404" y="16534"/>
                  <a:pt x="9366" y="16611"/>
                  <a:pt x="9327" y="16694"/>
                </a:cubicBezTo>
                <a:cubicBezTo>
                  <a:pt x="9403" y="16744"/>
                  <a:pt x="9675" y="16749"/>
                  <a:pt x="9723" y="16669"/>
                </a:cubicBezTo>
                <a:cubicBezTo>
                  <a:pt x="9707" y="16644"/>
                  <a:pt x="9690" y="16619"/>
                  <a:pt x="9674" y="16594"/>
                </a:cubicBezTo>
              </a:path>
              <a:path w="3275" h="1093">
                <a:moveTo>
                  <a:pt x="9674" y="16421"/>
                </a:moveTo>
                <a:cubicBezTo>
                  <a:pt x="9627" y="16545"/>
                  <a:pt x="9611" y="16748"/>
                  <a:pt x="9599" y="16892"/>
                </a:cubicBezTo>
                <a:cubicBezTo>
                  <a:pt x="9594" y="16958"/>
                  <a:pt x="9599" y="17107"/>
                  <a:pt x="9599" y="17041"/>
                </a:cubicBezTo>
              </a:path>
              <a:path w="3275" h="1093">
                <a:moveTo>
                  <a:pt x="9847" y="16917"/>
                </a:moveTo>
                <a:cubicBezTo>
                  <a:pt x="9830" y="16994"/>
                  <a:pt x="9795" y="17023"/>
                  <a:pt x="9847" y="17041"/>
                </a:cubicBezTo>
              </a:path>
              <a:path w="3275" h="1093">
                <a:moveTo>
                  <a:pt x="10145" y="16495"/>
                </a:moveTo>
                <a:cubicBezTo>
                  <a:pt x="10172" y="16482"/>
                  <a:pt x="10523" y="16348"/>
                  <a:pt x="10443" y="16520"/>
                </a:cubicBezTo>
                <a:cubicBezTo>
                  <a:pt x="10402" y="16609"/>
                  <a:pt x="10291" y="16642"/>
                  <a:pt x="10220" y="16694"/>
                </a:cubicBezTo>
                <a:cubicBezTo>
                  <a:pt x="10397" y="16594"/>
                  <a:pt x="10462" y="16609"/>
                  <a:pt x="10542" y="16768"/>
                </a:cubicBezTo>
                <a:cubicBezTo>
                  <a:pt x="10482" y="16820"/>
                  <a:pt x="10150" y="17033"/>
                  <a:pt x="10071" y="16867"/>
                </a:cubicBezTo>
                <a:cubicBezTo>
                  <a:pt x="10079" y="16834"/>
                  <a:pt x="10088" y="16801"/>
                  <a:pt x="10096" y="16768"/>
                </a:cubicBezTo>
              </a:path>
              <a:path w="3275" h="1093">
                <a:moveTo>
                  <a:pt x="10740" y="16346"/>
                </a:moveTo>
                <a:cubicBezTo>
                  <a:pt x="10643" y="16519"/>
                  <a:pt x="10614" y="16607"/>
                  <a:pt x="10666" y="16793"/>
                </a:cubicBezTo>
                <a:cubicBezTo>
                  <a:pt x="10772" y="16780"/>
                  <a:pt x="11205" y="16705"/>
                  <a:pt x="10988" y="16495"/>
                </a:cubicBezTo>
                <a:cubicBezTo>
                  <a:pt x="10852" y="16427"/>
                  <a:pt x="10815" y="16405"/>
                  <a:pt x="10716" y="16396"/>
                </a:cubicBezTo>
              </a:path>
              <a:path w="3275" h="1093">
                <a:moveTo>
                  <a:pt x="11261" y="16321"/>
                </a:moveTo>
                <a:cubicBezTo>
                  <a:pt x="11203" y="16467"/>
                  <a:pt x="11049" y="16842"/>
                  <a:pt x="11385" y="16818"/>
                </a:cubicBezTo>
                <a:cubicBezTo>
                  <a:pt x="11545" y="16749"/>
                  <a:pt x="11596" y="16737"/>
                  <a:pt x="11633" y="16619"/>
                </a:cubicBezTo>
                <a:cubicBezTo>
                  <a:pt x="11529" y="16441"/>
                  <a:pt x="11514" y="16464"/>
                  <a:pt x="11286" y="16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68920" y="5232240"/>
            <a:ext cx="2776320" cy="768600"/>
          </a:xfrm>
          <a:custGeom>
            <a:avLst/>
            <a:gdLst/>
            <a:ahLst/>
            <a:rect l="l" t="t" r="r" b="b"/>
            <a:pathLst>
              <a:path w="7715" h="2134">
                <a:moveTo>
                  <a:pt x="13568" y="15354"/>
                </a:moveTo>
                <a:cubicBezTo>
                  <a:pt x="13584" y="15594"/>
                  <a:pt x="13611" y="15832"/>
                  <a:pt x="13618" y="16073"/>
                </a:cubicBezTo>
                <a:cubicBezTo>
                  <a:pt x="13618" y="16081"/>
                  <a:pt x="13618" y="16090"/>
                  <a:pt x="13618" y="16098"/>
                </a:cubicBezTo>
              </a:path>
              <a:path w="7715" h="2134">
                <a:moveTo>
                  <a:pt x="13246" y="15180"/>
                </a:moveTo>
                <a:cubicBezTo>
                  <a:pt x="13397" y="15212"/>
                  <a:pt x="14451" y="15368"/>
                  <a:pt x="13965" y="15726"/>
                </a:cubicBezTo>
                <a:cubicBezTo>
                  <a:pt x="13808" y="15842"/>
                  <a:pt x="13621" y="15852"/>
                  <a:pt x="13519" y="15776"/>
                </a:cubicBezTo>
              </a:path>
              <a:path w="7715" h="2134">
                <a:moveTo>
                  <a:pt x="14511" y="15577"/>
                </a:moveTo>
                <a:cubicBezTo>
                  <a:pt x="14604" y="15549"/>
                  <a:pt x="14724" y="15504"/>
                  <a:pt x="14784" y="15528"/>
                </a:cubicBezTo>
              </a:path>
              <a:path w="7715" h="2134">
                <a:moveTo>
                  <a:pt x="14486" y="15825"/>
                </a:moveTo>
                <a:cubicBezTo>
                  <a:pt x="14643" y="15803"/>
                  <a:pt x="14684" y="15795"/>
                  <a:pt x="14784" y="15801"/>
                </a:cubicBezTo>
              </a:path>
              <a:path w="7715" h="2134">
                <a:moveTo>
                  <a:pt x="14784" y="15801"/>
                </a:moveTo>
                <a:lnTo>
                  <a:pt x="14784" y="15801"/>
                </a:lnTo>
              </a:path>
              <a:path w="7715" h="2134">
                <a:moveTo>
                  <a:pt x="15701" y="15131"/>
                </a:moveTo>
                <a:cubicBezTo>
                  <a:pt x="15713" y="15168"/>
                  <a:pt x="15739" y="15168"/>
                  <a:pt x="15751" y="15131"/>
                </a:cubicBezTo>
                <a:cubicBezTo>
                  <a:pt x="15645" y="14901"/>
                  <a:pt x="15501" y="15085"/>
                  <a:pt x="15478" y="15304"/>
                </a:cubicBezTo>
                <a:cubicBezTo>
                  <a:pt x="15430" y="15753"/>
                  <a:pt x="15858" y="15608"/>
                  <a:pt x="16098" y="15503"/>
                </a:cubicBezTo>
              </a:path>
              <a:path w="7715" h="2134">
                <a:moveTo>
                  <a:pt x="15404" y="15900"/>
                </a:moveTo>
                <a:cubicBezTo>
                  <a:pt x="15727" y="15865"/>
                  <a:pt x="16046" y="15814"/>
                  <a:pt x="16371" y="15801"/>
                </a:cubicBezTo>
              </a:path>
              <a:path w="7715" h="2134">
                <a:moveTo>
                  <a:pt x="15751" y="16049"/>
                </a:moveTo>
                <a:cubicBezTo>
                  <a:pt x="15578" y="16263"/>
                  <a:pt x="15548" y="16342"/>
                  <a:pt x="15577" y="16594"/>
                </a:cubicBezTo>
                <a:cubicBezTo>
                  <a:pt x="15734" y="16642"/>
                  <a:pt x="16132" y="16674"/>
                  <a:pt x="16073" y="16346"/>
                </a:cubicBezTo>
                <a:cubicBezTo>
                  <a:pt x="16045" y="16190"/>
                  <a:pt x="15841" y="16180"/>
                  <a:pt x="15726" y="16148"/>
                </a:cubicBezTo>
              </a:path>
              <a:path w="7715" h="2134">
                <a:moveTo>
                  <a:pt x="16991" y="15577"/>
                </a:moveTo>
                <a:cubicBezTo>
                  <a:pt x="17098" y="15563"/>
                  <a:pt x="17198" y="15529"/>
                  <a:pt x="17214" y="15577"/>
                </a:cubicBezTo>
              </a:path>
              <a:path w="7715" h="2134">
                <a:moveTo>
                  <a:pt x="16942" y="15801"/>
                </a:moveTo>
                <a:cubicBezTo>
                  <a:pt x="17124" y="15801"/>
                  <a:pt x="17175" y="15804"/>
                  <a:pt x="17289" y="15776"/>
                </a:cubicBezTo>
              </a:path>
              <a:path w="7715" h="2134">
                <a:moveTo>
                  <a:pt x="18182" y="14833"/>
                </a:moveTo>
                <a:cubicBezTo>
                  <a:pt x="18126" y="14935"/>
                  <a:pt x="18102" y="14997"/>
                  <a:pt x="18083" y="15106"/>
                </a:cubicBezTo>
                <a:cubicBezTo>
                  <a:pt x="18312" y="15116"/>
                  <a:pt x="18539" y="15123"/>
                  <a:pt x="18554" y="14932"/>
                </a:cubicBezTo>
              </a:path>
              <a:path w="7715" h="2134">
                <a:moveTo>
                  <a:pt x="18430" y="14585"/>
                </a:moveTo>
                <a:cubicBezTo>
                  <a:pt x="18424" y="14877"/>
                  <a:pt x="18431" y="15172"/>
                  <a:pt x="18355" y="15453"/>
                </a:cubicBezTo>
              </a:path>
              <a:path w="7715" h="2134">
                <a:moveTo>
                  <a:pt x="18703" y="15404"/>
                </a:moveTo>
                <a:cubicBezTo>
                  <a:pt x="18703" y="15495"/>
                  <a:pt x="18659" y="15668"/>
                  <a:pt x="18728" y="15577"/>
                </a:cubicBezTo>
              </a:path>
              <a:path w="7715" h="2134">
                <a:moveTo>
                  <a:pt x="19000" y="14734"/>
                </a:moveTo>
                <a:cubicBezTo>
                  <a:pt x="19072" y="14721"/>
                  <a:pt x="19502" y="14692"/>
                  <a:pt x="19298" y="14858"/>
                </a:cubicBezTo>
                <a:cubicBezTo>
                  <a:pt x="19248" y="14883"/>
                  <a:pt x="19199" y="14907"/>
                  <a:pt x="19149" y="14932"/>
                </a:cubicBezTo>
                <a:cubicBezTo>
                  <a:pt x="19124" y="14940"/>
                  <a:pt x="19100" y="14949"/>
                  <a:pt x="19075" y="14957"/>
                </a:cubicBezTo>
                <a:cubicBezTo>
                  <a:pt x="19214" y="14971"/>
                  <a:pt x="19510" y="15038"/>
                  <a:pt x="19323" y="15255"/>
                </a:cubicBezTo>
                <a:cubicBezTo>
                  <a:pt x="19166" y="15437"/>
                  <a:pt x="19057" y="15361"/>
                  <a:pt x="18951" y="15255"/>
                </a:cubicBezTo>
              </a:path>
              <a:path w="7715" h="2134">
                <a:moveTo>
                  <a:pt x="19844" y="14734"/>
                </a:moveTo>
                <a:cubicBezTo>
                  <a:pt x="19620" y="14837"/>
                  <a:pt x="19641" y="14966"/>
                  <a:pt x="19720" y="15180"/>
                </a:cubicBezTo>
                <a:cubicBezTo>
                  <a:pt x="19922" y="15158"/>
                  <a:pt x="20271" y="15078"/>
                  <a:pt x="19993" y="14808"/>
                </a:cubicBezTo>
                <a:cubicBezTo>
                  <a:pt x="19886" y="14755"/>
                  <a:pt x="19837" y="14777"/>
                  <a:pt x="19844" y="14709"/>
                </a:cubicBezTo>
              </a:path>
              <a:path w="7715" h="2134">
                <a:moveTo>
                  <a:pt x="20489" y="14536"/>
                </a:moveTo>
                <a:cubicBezTo>
                  <a:pt x="20360" y="14802"/>
                  <a:pt x="20221" y="15230"/>
                  <a:pt x="20737" y="15156"/>
                </a:cubicBezTo>
                <a:cubicBezTo>
                  <a:pt x="20904" y="15059"/>
                  <a:pt x="20960" y="15032"/>
                  <a:pt x="20960" y="14883"/>
                </a:cubicBezTo>
                <a:cubicBezTo>
                  <a:pt x="20736" y="14659"/>
                  <a:pt x="20770" y="14687"/>
                  <a:pt x="20464" y="14784"/>
                </a:cubicBezTo>
              </a:path>
              <a:path w="7715" h="2134">
                <a:moveTo>
                  <a:pt x="17711" y="15776"/>
                </a:moveTo>
                <a:cubicBezTo>
                  <a:pt x="18023" y="15720"/>
                  <a:pt x="18334" y="15673"/>
                  <a:pt x="18653" y="15652"/>
                </a:cubicBezTo>
                <a:cubicBezTo>
                  <a:pt x="19338" y="15606"/>
                  <a:pt x="20030" y="15644"/>
                  <a:pt x="20712" y="15577"/>
                </a:cubicBezTo>
                <a:cubicBezTo>
                  <a:pt x="20786" y="15559"/>
                  <a:pt x="20819" y="15525"/>
                  <a:pt x="20811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38960" y="5759280"/>
            <a:ext cx="946080" cy="339840"/>
          </a:xfrm>
          <a:custGeom>
            <a:avLst/>
            <a:gdLst/>
            <a:ahLst/>
            <a:rect l="l" t="t" r="r" b="b"/>
            <a:pathLst>
              <a:path w="2630" h="944">
                <a:moveTo>
                  <a:pt x="17884" y="16173"/>
                </a:moveTo>
                <a:cubicBezTo>
                  <a:pt x="18042" y="16138"/>
                  <a:pt x="18223" y="15978"/>
                  <a:pt x="18380" y="16098"/>
                </a:cubicBezTo>
                <a:cubicBezTo>
                  <a:pt x="18517" y="16202"/>
                  <a:pt x="18252" y="16378"/>
                  <a:pt x="18207" y="16421"/>
                </a:cubicBezTo>
                <a:cubicBezTo>
                  <a:pt x="18182" y="16437"/>
                  <a:pt x="18157" y="16454"/>
                  <a:pt x="18132" y="16470"/>
                </a:cubicBezTo>
                <a:cubicBezTo>
                  <a:pt x="18189" y="16463"/>
                  <a:pt x="18467" y="16388"/>
                  <a:pt x="18430" y="16545"/>
                </a:cubicBezTo>
                <a:cubicBezTo>
                  <a:pt x="18393" y="16702"/>
                  <a:pt x="17883" y="16859"/>
                  <a:pt x="17884" y="16842"/>
                </a:cubicBezTo>
                <a:cubicBezTo>
                  <a:pt x="17901" y="16793"/>
                  <a:pt x="17917" y="16743"/>
                  <a:pt x="17934" y="16694"/>
                </a:cubicBezTo>
              </a:path>
              <a:path w="2630" h="944">
                <a:moveTo>
                  <a:pt x="18703" y="16024"/>
                </a:moveTo>
                <a:cubicBezTo>
                  <a:pt x="18580" y="16097"/>
                  <a:pt x="18553" y="16125"/>
                  <a:pt x="18479" y="16247"/>
                </a:cubicBezTo>
                <a:cubicBezTo>
                  <a:pt x="18577" y="16327"/>
                  <a:pt x="18826" y="16429"/>
                  <a:pt x="18728" y="16594"/>
                </a:cubicBezTo>
                <a:cubicBezTo>
                  <a:pt x="18628" y="16669"/>
                  <a:pt x="18594" y="16694"/>
                  <a:pt x="18504" y="16694"/>
                </a:cubicBezTo>
                <a:cubicBezTo>
                  <a:pt x="18379" y="16456"/>
                  <a:pt x="18544" y="16369"/>
                  <a:pt x="18678" y="16148"/>
                </a:cubicBezTo>
                <a:cubicBezTo>
                  <a:pt x="18678" y="16140"/>
                  <a:pt x="18678" y="16131"/>
                  <a:pt x="18678" y="16123"/>
                </a:cubicBezTo>
              </a:path>
              <a:path w="2630" h="944">
                <a:moveTo>
                  <a:pt x="18976" y="16743"/>
                </a:moveTo>
                <a:cubicBezTo>
                  <a:pt x="18997" y="16824"/>
                  <a:pt x="18984" y="16994"/>
                  <a:pt x="19025" y="16892"/>
                </a:cubicBezTo>
              </a:path>
              <a:path w="2630" h="944">
                <a:moveTo>
                  <a:pt x="19348" y="16098"/>
                </a:moveTo>
                <a:cubicBezTo>
                  <a:pt x="19299" y="16110"/>
                  <a:pt x="19230" y="16125"/>
                  <a:pt x="19224" y="16173"/>
                </a:cubicBezTo>
                <a:cubicBezTo>
                  <a:pt x="19217" y="16229"/>
                  <a:pt x="19224" y="16290"/>
                  <a:pt x="19224" y="16346"/>
                </a:cubicBezTo>
                <a:cubicBezTo>
                  <a:pt x="19330" y="16346"/>
                  <a:pt x="19456" y="16344"/>
                  <a:pt x="19496" y="16470"/>
                </a:cubicBezTo>
                <a:cubicBezTo>
                  <a:pt x="19555" y="16655"/>
                  <a:pt x="19266" y="16698"/>
                  <a:pt x="19149" y="16669"/>
                </a:cubicBezTo>
                <a:cubicBezTo>
                  <a:pt x="19124" y="16652"/>
                  <a:pt x="19100" y="16636"/>
                  <a:pt x="19075" y="16619"/>
                </a:cubicBezTo>
              </a:path>
              <a:path w="2630" h="944">
                <a:moveTo>
                  <a:pt x="19645" y="16148"/>
                </a:moveTo>
                <a:cubicBezTo>
                  <a:pt x="19527" y="16292"/>
                  <a:pt x="19500" y="16364"/>
                  <a:pt x="19521" y="16545"/>
                </a:cubicBezTo>
                <a:cubicBezTo>
                  <a:pt x="19661" y="16580"/>
                  <a:pt x="19777" y="16557"/>
                  <a:pt x="19794" y="16371"/>
                </a:cubicBezTo>
                <a:cubicBezTo>
                  <a:pt x="19812" y="16168"/>
                  <a:pt x="19700" y="16148"/>
                  <a:pt x="19546" y="16148"/>
                </a:cubicBezTo>
              </a:path>
              <a:path w="2630" h="944">
                <a:moveTo>
                  <a:pt x="20315" y="15999"/>
                </a:moveTo>
                <a:cubicBezTo>
                  <a:pt x="20140" y="16121"/>
                  <a:pt x="20112" y="16235"/>
                  <a:pt x="20092" y="16446"/>
                </a:cubicBezTo>
                <a:cubicBezTo>
                  <a:pt x="20272" y="16465"/>
                  <a:pt x="20480" y="16459"/>
                  <a:pt x="20513" y="16222"/>
                </a:cubicBezTo>
                <a:cubicBezTo>
                  <a:pt x="20538" y="16039"/>
                  <a:pt x="20420" y="16082"/>
                  <a:pt x="20315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16880" y="5483160"/>
            <a:ext cx="830160" cy="330120"/>
          </a:xfrm>
          <a:custGeom>
            <a:avLst/>
            <a:gdLst/>
            <a:ahLst/>
            <a:rect l="l" t="t" r="r" b="b"/>
            <a:pathLst>
              <a:path w="2308" h="919">
                <a:moveTo>
                  <a:pt x="21183" y="15602"/>
                </a:moveTo>
                <a:cubicBezTo>
                  <a:pt x="21252" y="15619"/>
                  <a:pt x="21299" y="15607"/>
                  <a:pt x="21382" y="15602"/>
                </a:cubicBezTo>
                <a:cubicBezTo>
                  <a:pt x="21410" y="15602"/>
                  <a:pt x="21420" y="15605"/>
                  <a:pt x="21431" y="15627"/>
                </a:cubicBezTo>
              </a:path>
              <a:path w="2308" h="919">
                <a:moveTo>
                  <a:pt x="21158" y="15900"/>
                </a:moveTo>
                <a:cubicBezTo>
                  <a:pt x="21233" y="15900"/>
                  <a:pt x="21307" y="15900"/>
                  <a:pt x="21382" y="15900"/>
                </a:cubicBezTo>
              </a:path>
              <a:path w="2308" h="919">
                <a:moveTo>
                  <a:pt x="21903" y="15255"/>
                </a:moveTo>
                <a:cubicBezTo>
                  <a:pt x="21949" y="15239"/>
                  <a:pt x="21930" y="15229"/>
                  <a:pt x="21903" y="15280"/>
                </a:cubicBezTo>
                <a:cubicBezTo>
                  <a:pt x="21781" y="15511"/>
                  <a:pt x="21666" y="15676"/>
                  <a:pt x="21754" y="15900"/>
                </a:cubicBezTo>
                <a:cubicBezTo>
                  <a:pt x="21986" y="15832"/>
                  <a:pt x="22187" y="15747"/>
                  <a:pt x="22151" y="15453"/>
                </a:cubicBezTo>
                <a:cubicBezTo>
                  <a:pt x="22137" y="15337"/>
                  <a:pt x="21987" y="15211"/>
                  <a:pt x="21952" y="15280"/>
                </a:cubicBezTo>
              </a:path>
              <a:path w="2308" h="919">
                <a:moveTo>
                  <a:pt x="22349" y="15701"/>
                </a:moveTo>
                <a:cubicBezTo>
                  <a:pt x="22322" y="15800"/>
                  <a:pt x="22292" y="15825"/>
                  <a:pt x="22399" y="15825"/>
                </a:cubicBezTo>
                <a:cubicBezTo>
                  <a:pt x="22386" y="15786"/>
                  <a:pt x="22387" y="15815"/>
                  <a:pt x="22374" y="15776"/>
                </a:cubicBezTo>
              </a:path>
              <a:path w="2308" h="919">
                <a:moveTo>
                  <a:pt x="22647" y="15329"/>
                </a:moveTo>
                <a:cubicBezTo>
                  <a:pt x="22591" y="15366"/>
                  <a:pt x="22661" y="15636"/>
                  <a:pt x="22671" y="15701"/>
                </a:cubicBezTo>
                <a:cubicBezTo>
                  <a:pt x="22682" y="15776"/>
                  <a:pt x="22696" y="15950"/>
                  <a:pt x="22696" y="15875"/>
                </a:cubicBezTo>
              </a:path>
              <a:path w="2308" h="919">
                <a:moveTo>
                  <a:pt x="22994" y="15280"/>
                </a:moveTo>
                <a:cubicBezTo>
                  <a:pt x="23006" y="15462"/>
                  <a:pt x="23024" y="15644"/>
                  <a:pt x="23044" y="15825"/>
                </a:cubicBezTo>
                <a:cubicBezTo>
                  <a:pt x="23049" y="15873"/>
                  <a:pt x="23065" y="15846"/>
                  <a:pt x="23093" y="15825"/>
                </a:cubicBezTo>
              </a:path>
              <a:path w="2308" h="919">
                <a:moveTo>
                  <a:pt x="23341" y="15329"/>
                </a:moveTo>
                <a:cubicBezTo>
                  <a:pt x="23391" y="15478"/>
                  <a:pt x="23440" y="15644"/>
                  <a:pt x="23465" y="15801"/>
                </a:cubicBezTo>
                <a:cubicBezTo>
                  <a:pt x="23465" y="15817"/>
                  <a:pt x="23465" y="15834"/>
                  <a:pt x="23465" y="15850"/>
                </a:cubicBezTo>
              </a:path>
              <a:path w="2308" h="919">
                <a:moveTo>
                  <a:pt x="23068" y="16123"/>
                </a:moveTo>
                <a:cubicBezTo>
                  <a:pt x="23097" y="16123"/>
                  <a:pt x="23295" y="16123"/>
                  <a:pt x="23242" y="16123"/>
                </a:cubicBezTo>
                <a:cubicBezTo>
                  <a:pt x="23193" y="16132"/>
                  <a:pt x="22904" y="16143"/>
                  <a:pt x="22969" y="16123"/>
                </a:cubicBezTo>
                <a:cubicBezTo>
                  <a:pt x="23003" y="16113"/>
                  <a:pt x="23183" y="16098"/>
                  <a:pt x="23118" y="16098"/>
                </a:cubicBezTo>
                <a:cubicBezTo>
                  <a:pt x="23085" y="16098"/>
                  <a:pt x="23052" y="16098"/>
                  <a:pt x="23019" y="16098"/>
                </a:cubicBezTo>
                <a:cubicBezTo>
                  <a:pt x="23011" y="16098"/>
                  <a:pt x="23002" y="16098"/>
                  <a:pt x="22994" y="16098"/>
                </a:cubicBezTo>
                <a:cubicBezTo>
                  <a:pt x="23053" y="16098"/>
                  <a:pt x="23198" y="16118"/>
                  <a:pt x="23242" y="16073"/>
                </a:cubicBezTo>
                <a:cubicBezTo>
                  <a:pt x="23214" y="16073"/>
                  <a:pt x="23203" y="16075"/>
                  <a:pt x="23192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589960" y="5518080"/>
            <a:ext cx="546120" cy="260280"/>
          </a:xfrm>
          <a:custGeom>
            <a:avLst/>
            <a:gdLst/>
            <a:ahLst/>
            <a:rect l="l" t="t" r="r" b="b"/>
            <a:pathLst>
              <a:path w="1514" h="721">
                <a:moveTo>
                  <a:pt x="23912" y="15677"/>
                </a:moveTo>
                <a:cubicBezTo>
                  <a:pt x="23937" y="15638"/>
                  <a:pt x="24024" y="15664"/>
                  <a:pt x="24061" y="15627"/>
                </a:cubicBezTo>
                <a:cubicBezTo>
                  <a:pt x="24033" y="15627"/>
                  <a:pt x="24022" y="15629"/>
                  <a:pt x="24011" y="15652"/>
                </a:cubicBezTo>
              </a:path>
              <a:path w="1514" h="721">
                <a:moveTo>
                  <a:pt x="23862" y="15825"/>
                </a:moveTo>
                <a:cubicBezTo>
                  <a:pt x="23931" y="15819"/>
                  <a:pt x="23993" y="15801"/>
                  <a:pt x="24061" y="15801"/>
                </a:cubicBezTo>
              </a:path>
              <a:path w="1514" h="721">
                <a:moveTo>
                  <a:pt x="24482" y="15354"/>
                </a:moveTo>
                <a:cubicBezTo>
                  <a:pt x="24457" y="15303"/>
                  <a:pt x="24269" y="15610"/>
                  <a:pt x="24259" y="15627"/>
                </a:cubicBezTo>
                <a:cubicBezTo>
                  <a:pt x="24159" y="15809"/>
                  <a:pt x="24113" y="16038"/>
                  <a:pt x="24383" y="16024"/>
                </a:cubicBezTo>
                <a:cubicBezTo>
                  <a:pt x="24597" y="16013"/>
                  <a:pt x="24609" y="15680"/>
                  <a:pt x="24557" y="15528"/>
                </a:cubicBezTo>
                <a:cubicBezTo>
                  <a:pt x="24526" y="15438"/>
                  <a:pt x="24412" y="15259"/>
                  <a:pt x="24408" y="15354"/>
                </a:cubicBezTo>
                <a:cubicBezTo>
                  <a:pt x="24408" y="15387"/>
                  <a:pt x="24408" y="15420"/>
                  <a:pt x="24408" y="15453"/>
                </a:cubicBezTo>
              </a:path>
              <a:path w="1514" h="721">
                <a:moveTo>
                  <a:pt x="24780" y="15825"/>
                </a:moveTo>
                <a:cubicBezTo>
                  <a:pt x="24786" y="15876"/>
                  <a:pt x="24797" y="15923"/>
                  <a:pt x="24805" y="15974"/>
                </a:cubicBezTo>
              </a:path>
              <a:path w="1514" h="721">
                <a:moveTo>
                  <a:pt x="24805" y="15553"/>
                </a:moveTo>
                <a:cubicBezTo>
                  <a:pt x="24832" y="15661"/>
                  <a:pt x="24860" y="15764"/>
                  <a:pt x="24879" y="15875"/>
                </a:cubicBezTo>
                <a:cubicBezTo>
                  <a:pt x="24879" y="15883"/>
                  <a:pt x="24879" y="15892"/>
                  <a:pt x="24879" y="15900"/>
                </a:cubicBezTo>
              </a:path>
              <a:path w="1514" h="721">
                <a:moveTo>
                  <a:pt x="25028" y="15478"/>
                </a:moveTo>
                <a:cubicBezTo>
                  <a:pt x="25028" y="15470"/>
                  <a:pt x="25028" y="15461"/>
                  <a:pt x="25028" y="15453"/>
                </a:cubicBezTo>
                <a:cubicBezTo>
                  <a:pt x="25107" y="15516"/>
                  <a:pt x="25156" y="15663"/>
                  <a:pt x="25177" y="15776"/>
                </a:cubicBezTo>
                <a:cubicBezTo>
                  <a:pt x="25182" y="15804"/>
                  <a:pt x="25177" y="15845"/>
                  <a:pt x="25177" y="15875"/>
                </a:cubicBezTo>
              </a:path>
              <a:path w="1514" h="721">
                <a:moveTo>
                  <a:pt x="25276" y="15379"/>
                </a:moveTo>
                <a:cubicBezTo>
                  <a:pt x="25314" y="15341"/>
                  <a:pt x="25337" y="15343"/>
                  <a:pt x="25375" y="15404"/>
                </a:cubicBezTo>
              </a:path>
              <a:path w="1514" h="721">
                <a:moveTo>
                  <a:pt x="25375" y="15429"/>
                </a:moveTo>
                <a:cubicBezTo>
                  <a:pt x="25375" y="15454"/>
                  <a:pt x="25375" y="15478"/>
                  <a:pt x="25375" y="15503"/>
                </a:cubicBezTo>
              </a:path>
              <a:path w="1514" h="721">
                <a:moveTo>
                  <a:pt x="24705" y="15925"/>
                </a:moveTo>
                <a:cubicBezTo>
                  <a:pt x="24750" y="15957"/>
                  <a:pt x="24691" y="16088"/>
                  <a:pt x="24730" y="16049"/>
                </a:cubicBezTo>
                <a:cubicBezTo>
                  <a:pt x="24791" y="15988"/>
                  <a:pt x="24747" y="15934"/>
                  <a:pt x="24829" y="15875"/>
                </a:cubicBezTo>
                <a:cubicBezTo>
                  <a:pt x="24785" y="15926"/>
                  <a:pt x="24700" y="15998"/>
                  <a:pt x="24730" y="16024"/>
                </a:cubicBezTo>
                <a:cubicBezTo>
                  <a:pt x="24760" y="16049"/>
                  <a:pt x="24796" y="16044"/>
                  <a:pt x="24755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1880" y="4170240"/>
            <a:ext cx="1490400" cy="115920"/>
          </a:xfrm>
          <a:custGeom>
            <a:avLst/>
            <a:gdLst/>
            <a:ahLst/>
            <a:rect l="l" t="t" r="r" b="b"/>
            <a:pathLst>
              <a:path w="4143" h="323">
                <a:moveTo>
                  <a:pt x="15032" y="11906"/>
                </a:moveTo>
                <a:cubicBezTo>
                  <a:pt x="15196" y="11893"/>
                  <a:pt x="15364" y="11897"/>
                  <a:pt x="15528" y="11881"/>
                </a:cubicBezTo>
                <a:cubicBezTo>
                  <a:pt x="15663" y="11868"/>
                  <a:pt x="15788" y="11857"/>
                  <a:pt x="15925" y="11857"/>
                </a:cubicBezTo>
                <a:cubicBezTo>
                  <a:pt x="16060" y="11857"/>
                  <a:pt x="16188" y="11809"/>
                  <a:pt x="16321" y="11782"/>
                </a:cubicBezTo>
                <a:cubicBezTo>
                  <a:pt x="16463" y="11753"/>
                  <a:pt x="16601" y="11752"/>
                  <a:pt x="16743" y="11733"/>
                </a:cubicBezTo>
                <a:cubicBezTo>
                  <a:pt x="17070" y="11688"/>
                  <a:pt x="17373" y="11542"/>
                  <a:pt x="17711" y="11584"/>
                </a:cubicBezTo>
                <a:cubicBezTo>
                  <a:pt x="17827" y="11598"/>
                  <a:pt x="17943" y="11641"/>
                  <a:pt x="18058" y="11658"/>
                </a:cubicBezTo>
                <a:cubicBezTo>
                  <a:pt x="18241" y="11686"/>
                  <a:pt x="18418" y="11683"/>
                  <a:pt x="18604" y="11683"/>
                </a:cubicBezTo>
                <a:cubicBezTo>
                  <a:pt x="18736" y="11683"/>
                  <a:pt x="18871" y="11680"/>
                  <a:pt x="19000" y="11658"/>
                </a:cubicBezTo>
                <a:cubicBezTo>
                  <a:pt x="19107" y="11640"/>
                  <a:pt x="19091" y="11645"/>
                  <a:pt x="19174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04080" y="6249960"/>
            <a:ext cx="27000" cy="223920"/>
          </a:xfrm>
          <a:custGeom>
            <a:avLst/>
            <a:gdLst/>
            <a:ahLst/>
            <a:rect l="l" t="t" r="r" b="b"/>
            <a:pathLst>
              <a:path w="76" h="621">
                <a:moveTo>
                  <a:pt x="21704" y="17363"/>
                </a:moveTo>
                <a:lnTo>
                  <a:pt x="21704" y="17363"/>
                </a:lnTo>
              </a:path>
              <a:path w="76" h="621">
                <a:moveTo>
                  <a:pt x="21729" y="17363"/>
                </a:moveTo>
                <a:lnTo>
                  <a:pt x="21729" y="17363"/>
                </a:lnTo>
              </a:path>
              <a:path w="76" h="621">
                <a:moveTo>
                  <a:pt x="21729" y="17363"/>
                </a:moveTo>
                <a:lnTo>
                  <a:pt x="21729" y="17363"/>
                </a:lnTo>
              </a:path>
              <a:path w="76" h="621">
                <a:moveTo>
                  <a:pt x="21729" y="17363"/>
                </a:moveTo>
                <a:cubicBezTo>
                  <a:pt x="21719" y="17563"/>
                  <a:pt x="21701" y="17761"/>
                  <a:pt x="21679" y="17959"/>
                </a:cubicBezTo>
                <a:cubicBezTo>
                  <a:pt x="21673" y="18014"/>
                  <a:pt x="21731" y="17968"/>
                  <a:pt x="21754" y="179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74000" y="6215040"/>
            <a:ext cx="9360" cy="223920"/>
          </a:xfrm>
          <a:custGeom>
            <a:avLst/>
            <a:gdLst/>
            <a:ahLst/>
            <a:rect l="l" t="t" r="r" b="b"/>
            <a:pathLst>
              <a:path w="25" h="621">
                <a:moveTo>
                  <a:pt x="22151" y="17264"/>
                </a:moveTo>
                <a:cubicBezTo>
                  <a:pt x="22151" y="17406"/>
                  <a:pt x="22172" y="17543"/>
                  <a:pt x="22175" y="17686"/>
                </a:cubicBezTo>
                <a:cubicBezTo>
                  <a:pt x="22176" y="17752"/>
                  <a:pt x="22175" y="17818"/>
                  <a:pt x="22175" y="178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72280" y="6180120"/>
            <a:ext cx="187560" cy="241200"/>
          </a:xfrm>
          <a:custGeom>
            <a:avLst/>
            <a:gdLst/>
            <a:ahLst/>
            <a:rect l="l" t="t" r="r" b="b"/>
            <a:pathLst>
              <a:path w="522" h="671">
                <a:moveTo>
                  <a:pt x="22547" y="17289"/>
                </a:moveTo>
                <a:cubicBezTo>
                  <a:pt x="22554" y="17255"/>
                  <a:pt x="22565" y="17224"/>
                  <a:pt x="22572" y="17190"/>
                </a:cubicBezTo>
                <a:cubicBezTo>
                  <a:pt x="22454" y="17232"/>
                  <a:pt x="22442" y="17229"/>
                  <a:pt x="22423" y="17363"/>
                </a:cubicBezTo>
                <a:cubicBezTo>
                  <a:pt x="22473" y="17388"/>
                  <a:pt x="22539" y="17410"/>
                  <a:pt x="22572" y="17338"/>
                </a:cubicBezTo>
                <a:cubicBezTo>
                  <a:pt x="22579" y="17322"/>
                  <a:pt x="22572" y="17282"/>
                  <a:pt x="22572" y="17264"/>
                </a:cubicBezTo>
              </a:path>
              <a:path w="522" h="671">
                <a:moveTo>
                  <a:pt x="22572" y="17239"/>
                </a:moveTo>
                <a:lnTo>
                  <a:pt x="22572" y="17239"/>
                </a:lnTo>
              </a:path>
              <a:path w="522" h="671">
                <a:moveTo>
                  <a:pt x="22572" y="17239"/>
                </a:moveTo>
                <a:cubicBezTo>
                  <a:pt x="22648" y="17239"/>
                  <a:pt x="22653" y="17212"/>
                  <a:pt x="22721" y="17190"/>
                </a:cubicBezTo>
                <a:cubicBezTo>
                  <a:pt x="22765" y="17176"/>
                  <a:pt x="22762" y="17176"/>
                  <a:pt x="22796" y="17165"/>
                </a:cubicBezTo>
                <a:cubicBezTo>
                  <a:pt x="22718" y="17379"/>
                  <a:pt x="22655" y="17610"/>
                  <a:pt x="22547" y="17810"/>
                </a:cubicBezTo>
                <a:cubicBezTo>
                  <a:pt x="22539" y="17818"/>
                  <a:pt x="22531" y="17827"/>
                  <a:pt x="22523" y="17835"/>
                </a:cubicBezTo>
              </a:path>
              <a:path w="522" h="671">
                <a:moveTo>
                  <a:pt x="22796" y="17636"/>
                </a:moveTo>
                <a:cubicBezTo>
                  <a:pt x="22796" y="17653"/>
                  <a:pt x="22780" y="17762"/>
                  <a:pt x="22820" y="17760"/>
                </a:cubicBezTo>
                <a:cubicBezTo>
                  <a:pt x="22914" y="17755"/>
                  <a:pt x="22979" y="17718"/>
                  <a:pt x="22895" y="176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02760" y="6205680"/>
            <a:ext cx="81000" cy="260280"/>
          </a:xfrm>
          <a:custGeom>
            <a:avLst/>
            <a:gdLst/>
            <a:ahLst/>
            <a:rect l="l" t="t" r="r" b="b"/>
            <a:pathLst>
              <a:path w="224" h="721">
                <a:moveTo>
                  <a:pt x="23564" y="17686"/>
                </a:moveTo>
                <a:cubicBezTo>
                  <a:pt x="23534" y="17640"/>
                  <a:pt x="23494" y="17623"/>
                  <a:pt x="23490" y="17562"/>
                </a:cubicBezTo>
                <a:cubicBezTo>
                  <a:pt x="23480" y="17416"/>
                  <a:pt x="23539" y="17852"/>
                  <a:pt x="23540" y="17859"/>
                </a:cubicBezTo>
                <a:cubicBezTo>
                  <a:pt x="23548" y="17892"/>
                  <a:pt x="23556" y="17926"/>
                  <a:pt x="23564" y="17959"/>
                </a:cubicBezTo>
              </a:path>
              <a:path w="224" h="721">
                <a:moveTo>
                  <a:pt x="23341" y="17239"/>
                </a:moveTo>
                <a:lnTo>
                  <a:pt x="23341" y="17239"/>
                </a:lnTo>
                <a:lnTo>
                  <a:pt x="23341" y="17239"/>
                </a:lnTo>
              </a:path>
              <a:path w="224" h="721">
                <a:moveTo>
                  <a:pt x="23341" y="17239"/>
                </a:moveTo>
                <a:lnTo>
                  <a:pt x="23341" y="1723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582040" y="6188040"/>
            <a:ext cx="320760" cy="23328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23837" y="17711"/>
                </a:moveTo>
                <a:cubicBezTo>
                  <a:pt x="23881" y="17776"/>
                  <a:pt x="23892" y="17790"/>
                  <a:pt x="23912" y="17835"/>
                </a:cubicBezTo>
                <a:cubicBezTo>
                  <a:pt x="23891" y="17692"/>
                  <a:pt x="23832" y="17602"/>
                  <a:pt x="23912" y="17462"/>
                </a:cubicBezTo>
                <a:cubicBezTo>
                  <a:pt x="23980" y="17394"/>
                  <a:pt x="23997" y="17372"/>
                  <a:pt x="24061" y="17363"/>
                </a:cubicBezTo>
                <a:cubicBezTo>
                  <a:pt x="24061" y="17525"/>
                  <a:pt x="24059" y="17616"/>
                  <a:pt x="23986" y="17760"/>
                </a:cubicBezTo>
              </a:path>
              <a:path w="894" h="646">
                <a:moveTo>
                  <a:pt x="24309" y="17289"/>
                </a:moveTo>
                <a:cubicBezTo>
                  <a:pt x="24309" y="17246"/>
                  <a:pt x="24303" y="17221"/>
                  <a:pt x="24284" y="17190"/>
                </a:cubicBezTo>
                <a:cubicBezTo>
                  <a:pt x="24177" y="17243"/>
                  <a:pt x="24080" y="17431"/>
                  <a:pt x="24110" y="17562"/>
                </a:cubicBezTo>
                <a:cubicBezTo>
                  <a:pt x="24167" y="17809"/>
                  <a:pt x="24495" y="17600"/>
                  <a:pt x="24606" y="17537"/>
                </a:cubicBezTo>
              </a:path>
              <a:path w="894" h="646">
                <a:moveTo>
                  <a:pt x="24705" y="17462"/>
                </a:moveTo>
                <a:cubicBezTo>
                  <a:pt x="24713" y="17462"/>
                  <a:pt x="24722" y="17462"/>
                  <a:pt x="24730" y="174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 Amount: 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mount: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0 meters to 475 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33,300 to $31,0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40320" y="534960"/>
            <a:ext cx="1187640" cy="696960"/>
          </a:xfrm>
          <a:custGeom>
            <a:avLst/>
            <a:gdLst/>
            <a:ahLst/>
            <a:rect l="l" t="t" r="r" b="b"/>
            <a:pathLst>
              <a:path w="3300" h="1936">
                <a:moveTo>
                  <a:pt x="18083" y="1960"/>
                </a:moveTo>
                <a:cubicBezTo>
                  <a:pt x="18107" y="2160"/>
                  <a:pt x="18224" y="2339"/>
                  <a:pt x="18281" y="2530"/>
                </a:cubicBezTo>
                <a:cubicBezTo>
                  <a:pt x="18300" y="2646"/>
                  <a:pt x="18309" y="2662"/>
                  <a:pt x="18306" y="2729"/>
                </a:cubicBezTo>
              </a:path>
              <a:path w="3300" h="1936">
                <a:moveTo>
                  <a:pt x="17611" y="1885"/>
                </a:moveTo>
                <a:cubicBezTo>
                  <a:pt x="17827" y="1798"/>
                  <a:pt x="18520" y="1477"/>
                  <a:pt x="18529" y="1984"/>
                </a:cubicBezTo>
                <a:cubicBezTo>
                  <a:pt x="18533" y="2191"/>
                  <a:pt x="18097" y="2413"/>
                  <a:pt x="18107" y="2307"/>
                </a:cubicBezTo>
                <a:cubicBezTo>
                  <a:pt x="18132" y="2257"/>
                  <a:pt x="18157" y="2208"/>
                  <a:pt x="18182" y="2158"/>
                </a:cubicBezTo>
              </a:path>
              <a:path w="3300" h="1936">
                <a:moveTo>
                  <a:pt x="18976" y="2084"/>
                </a:moveTo>
                <a:cubicBezTo>
                  <a:pt x="19124" y="1999"/>
                  <a:pt x="19308" y="1833"/>
                  <a:pt x="19348" y="1984"/>
                </a:cubicBezTo>
              </a:path>
              <a:path w="3300" h="1936">
                <a:moveTo>
                  <a:pt x="19050" y="2381"/>
                </a:moveTo>
                <a:cubicBezTo>
                  <a:pt x="19262" y="2324"/>
                  <a:pt x="19464" y="2258"/>
                  <a:pt x="19670" y="2183"/>
                </a:cubicBezTo>
              </a:path>
              <a:path w="3300" h="1936">
                <a:moveTo>
                  <a:pt x="20265" y="1612"/>
                </a:moveTo>
                <a:cubicBezTo>
                  <a:pt x="20290" y="1612"/>
                  <a:pt x="20298" y="1612"/>
                  <a:pt x="20290" y="1588"/>
                </a:cubicBezTo>
                <a:cubicBezTo>
                  <a:pt x="20072" y="1404"/>
                  <a:pt x="19972" y="1636"/>
                  <a:pt x="19968" y="1885"/>
                </a:cubicBezTo>
                <a:cubicBezTo>
                  <a:pt x="19963" y="2188"/>
                  <a:pt x="20282" y="2152"/>
                  <a:pt x="20439" y="2009"/>
                </a:cubicBezTo>
                <a:cubicBezTo>
                  <a:pt x="20509" y="1915"/>
                  <a:pt x="20530" y="1886"/>
                  <a:pt x="20588" y="1836"/>
                </a:cubicBezTo>
              </a:path>
              <a:path w="3300" h="1936">
                <a:moveTo>
                  <a:pt x="19918" y="2629"/>
                </a:moveTo>
                <a:cubicBezTo>
                  <a:pt x="20168" y="2522"/>
                  <a:pt x="20415" y="2455"/>
                  <a:pt x="20687" y="2431"/>
                </a:cubicBezTo>
                <a:cubicBezTo>
                  <a:pt x="20812" y="2431"/>
                  <a:pt x="20840" y="2423"/>
                  <a:pt x="20910" y="2456"/>
                </a:cubicBezTo>
              </a:path>
              <a:path w="3300" h="1936">
                <a:moveTo>
                  <a:pt x="20414" y="2927"/>
                </a:moveTo>
                <a:cubicBezTo>
                  <a:pt x="20266" y="3009"/>
                  <a:pt x="20109" y="3174"/>
                  <a:pt x="20265" y="3349"/>
                </a:cubicBezTo>
                <a:cubicBezTo>
                  <a:pt x="20466" y="3575"/>
                  <a:pt x="20675" y="3260"/>
                  <a:pt x="20687" y="3076"/>
                </a:cubicBezTo>
                <a:cubicBezTo>
                  <a:pt x="20697" y="2922"/>
                  <a:pt x="20521" y="2937"/>
                  <a:pt x="20414" y="29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62640" y="1438200"/>
            <a:ext cx="750600" cy="1071720"/>
          </a:xfrm>
          <a:custGeom>
            <a:avLst/>
            <a:gdLst/>
            <a:ahLst/>
            <a:rect l="l" t="t" r="r" b="b"/>
            <a:pathLst>
              <a:path w="2085" h="2977">
                <a:moveTo>
                  <a:pt x="13767" y="3994"/>
                </a:moveTo>
                <a:cubicBezTo>
                  <a:pt x="13704" y="4117"/>
                  <a:pt x="13599" y="4244"/>
                  <a:pt x="13519" y="4366"/>
                </a:cubicBezTo>
                <a:cubicBezTo>
                  <a:pt x="13682" y="4366"/>
                  <a:pt x="13832" y="4315"/>
                  <a:pt x="13940" y="4465"/>
                </a:cubicBezTo>
                <a:cubicBezTo>
                  <a:pt x="14091" y="4675"/>
                  <a:pt x="13654" y="4726"/>
                  <a:pt x="13543" y="4663"/>
                </a:cubicBezTo>
                <a:cubicBezTo>
                  <a:pt x="13535" y="4638"/>
                  <a:pt x="13527" y="4614"/>
                  <a:pt x="13519" y="4589"/>
                </a:cubicBezTo>
              </a:path>
              <a:path w="2085" h="2977">
                <a:moveTo>
                  <a:pt x="14362" y="4018"/>
                </a:moveTo>
                <a:cubicBezTo>
                  <a:pt x="14330" y="4179"/>
                  <a:pt x="14216" y="4373"/>
                  <a:pt x="14362" y="4514"/>
                </a:cubicBezTo>
                <a:cubicBezTo>
                  <a:pt x="14395" y="4522"/>
                  <a:pt x="14428" y="4531"/>
                  <a:pt x="14461" y="4539"/>
                </a:cubicBezTo>
                <a:cubicBezTo>
                  <a:pt x="14614" y="4396"/>
                  <a:pt x="14761" y="4155"/>
                  <a:pt x="14412" y="4118"/>
                </a:cubicBezTo>
                <a:cubicBezTo>
                  <a:pt x="14354" y="4126"/>
                  <a:pt x="14296" y="4134"/>
                  <a:pt x="14238" y="4142"/>
                </a:cubicBezTo>
              </a:path>
              <a:path w="2085" h="2977">
                <a:moveTo>
                  <a:pt x="13692" y="4068"/>
                </a:moveTo>
                <a:cubicBezTo>
                  <a:pt x="13826" y="4023"/>
                  <a:pt x="13924" y="4006"/>
                  <a:pt x="14064" y="3994"/>
                </a:cubicBezTo>
              </a:path>
              <a:path w="2085" h="2977">
                <a:moveTo>
                  <a:pt x="12675" y="5507"/>
                </a:moveTo>
                <a:cubicBezTo>
                  <a:pt x="12883" y="5437"/>
                  <a:pt x="12944" y="5418"/>
                  <a:pt x="13072" y="5358"/>
                </a:cubicBezTo>
              </a:path>
              <a:path w="2085" h="2977">
                <a:moveTo>
                  <a:pt x="13494" y="5209"/>
                </a:moveTo>
                <a:cubicBezTo>
                  <a:pt x="13561" y="5198"/>
                  <a:pt x="13858" y="5105"/>
                  <a:pt x="13692" y="5283"/>
                </a:cubicBezTo>
                <a:cubicBezTo>
                  <a:pt x="13591" y="5364"/>
                  <a:pt x="13571" y="5376"/>
                  <a:pt x="13519" y="5432"/>
                </a:cubicBezTo>
                <a:cubicBezTo>
                  <a:pt x="13674" y="5397"/>
                  <a:pt x="13770" y="5398"/>
                  <a:pt x="13915" y="5432"/>
                </a:cubicBezTo>
                <a:cubicBezTo>
                  <a:pt x="13780" y="5679"/>
                  <a:pt x="13654" y="5776"/>
                  <a:pt x="13444" y="5606"/>
                </a:cubicBezTo>
              </a:path>
              <a:path w="2085" h="2977">
                <a:moveTo>
                  <a:pt x="14312" y="5035"/>
                </a:moveTo>
                <a:cubicBezTo>
                  <a:pt x="14294" y="5211"/>
                  <a:pt x="14217" y="5569"/>
                  <a:pt x="14511" y="5581"/>
                </a:cubicBezTo>
                <a:cubicBezTo>
                  <a:pt x="14694" y="5588"/>
                  <a:pt x="14709" y="5474"/>
                  <a:pt x="14709" y="5358"/>
                </a:cubicBezTo>
                <a:cubicBezTo>
                  <a:pt x="14464" y="5463"/>
                  <a:pt x="14404" y="5524"/>
                  <a:pt x="14436" y="5804"/>
                </a:cubicBezTo>
              </a:path>
              <a:path w="2085" h="2977">
                <a:moveTo>
                  <a:pt x="13519" y="6127"/>
                </a:moveTo>
                <a:cubicBezTo>
                  <a:pt x="13877" y="6015"/>
                  <a:pt x="14378" y="5757"/>
                  <a:pt x="14759" y="5755"/>
                </a:cubicBezTo>
                <a:cubicBezTo>
                  <a:pt x="14759" y="5763"/>
                  <a:pt x="14759" y="5771"/>
                  <a:pt x="14759" y="5779"/>
                </a:cubicBezTo>
              </a:path>
              <a:path w="2085" h="2977">
                <a:moveTo>
                  <a:pt x="13742" y="6375"/>
                </a:moveTo>
                <a:cubicBezTo>
                  <a:pt x="13742" y="6209"/>
                  <a:pt x="13742" y="6606"/>
                  <a:pt x="13742" y="6772"/>
                </a:cubicBezTo>
                <a:cubicBezTo>
                  <a:pt x="13742" y="6890"/>
                  <a:pt x="13756" y="6911"/>
                  <a:pt x="13717" y="6970"/>
                </a:cubicBezTo>
              </a:path>
              <a:path w="2085" h="2977">
                <a:moveTo>
                  <a:pt x="14387" y="6350"/>
                </a:moveTo>
                <a:cubicBezTo>
                  <a:pt x="14387" y="6415"/>
                  <a:pt x="14329" y="6647"/>
                  <a:pt x="14461" y="6623"/>
                </a:cubicBezTo>
                <a:cubicBezTo>
                  <a:pt x="14558" y="6606"/>
                  <a:pt x="14669" y="6540"/>
                  <a:pt x="14759" y="6499"/>
                </a:cubicBezTo>
              </a:path>
              <a:path w="2085" h="2977">
                <a:moveTo>
                  <a:pt x="14660" y="6300"/>
                </a:moveTo>
                <a:cubicBezTo>
                  <a:pt x="14660" y="6503"/>
                  <a:pt x="14668" y="6699"/>
                  <a:pt x="14635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59280" y="1884240"/>
            <a:ext cx="438480" cy="303480"/>
          </a:xfrm>
          <a:custGeom>
            <a:avLst/>
            <a:gdLst/>
            <a:ahLst/>
            <a:rect l="l" t="t" r="r" b="b"/>
            <a:pathLst>
              <a:path w="1216" h="844">
                <a:moveTo>
                  <a:pt x="16247" y="5507"/>
                </a:moveTo>
                <a:cubicBezTo>
                  <a:pt x="16287" y="5697"/>
                  <a:pt x="16330" y="5887"/>
                  <a:pt x="16371" y="6077"/>
                </a:cubicBezTo>
              </a:path>
              <a:path w="1216" h="844">
                <a:moveTo>
                  <a:pt x="15999" y="5283"/>
                </a:moveTo>
                <a:cubicBezTo>
                  <a:pt x="16094" y="5269"/>
                  <a:pt x="16790" y="5106"/>
                  <a:pt x="16594" y="5432"/>
                </a:cubicBezTo>
                <a:cubicBezTo>
                  <a:pt x="16526" y="5545"/>
                  <a:pt x="16396" y="5630"/>
                  <a:pt x="16297" y="5631"/>
                </a:cubicBezTo>
              </a:path>
              <a:path w="1216" h="844">
                <a:moveTo>
                  <a:pt x="16917" y="5358"/>
                </a:moveTo>
                <a:cubicBezTo>
                  <a:pt x="17016" y="5346"/>
                  <a:pt x="17115" y="5321"/>
                  <a:pt x="17214" y="5308"/>
                </a:cubicBezTo>
              </a:path>
              <a:path w="1216" h="844">
                <a:moveTo>
                  <a:pt x="17016" y="5655"/>
                </a:moveTo>
                <a:cubicBezTo>
                  <a:pt x="17057" y="5630"/>
                  <a:pt x="17099" y="5606"/>
                  <a:pt x="17140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5960" y="1554120"/>
            <a:ext cx="2554200" cy="820800"/>
          </a:xfrm>
          <a:custGeom>
            <a:avLst/>
            <a:gdLst/>
            <a:ahLst/>
            <a:rect l="l" t="t" r="r" b="b"/>
            <a:pathLst>
              <a:path w="7095" h="2283">
                <a:moveTo>
                  <a:pt x="18281" y="4862"/>
                </a:moveTo>
                <a:cubicBezTo>
                  <a:pt x="18281" y="4961"/>
                  <a:pt x="18281" y="5060"/>
                  <a:pt x="18281" y="5159"/>
                </a:cubicBezTo>
              </a:path>
              <a:path w="7095" h="2283">
                <a:moveTo>
                  <a:pt x="18628" y="4490"/>
                </a:moveTo>
                <a:cubicBezTo>
                  <a:pt x="18628" y="4615"/>
                  <a:pt x="18612" y="4754"/>
                  <a:pt x="18653" y="4862"/>
                </a:cubicBezTo>
                <a:cubicBezTo>
                  <a:pt x="18805" y="4853"/>
                  <a:pt x="18863" y="4831"/>
                  <a:pt x="19000" y="4762"/>
                </a:cubicBezTo>
              </a:path>
              <a:path w="7095" h="2283">
                <a:moveTo>
                  <a:pt x="18976" y="4316"/>
                </a:moveTo>
                <a:cubicBezTo>
                  <a:pt x="18988" y="4583"/>
                  <a:pt x="19012" y="4844"/>
                  <a:pt x="19025" y="5110"/>
                </a:cubicBezTo>
              </a:path>
              <a:path w="7095" h="2283">
                <a:moveTo>
                  <a:pt x="17959" y="5606"/>
                </a:moveTo>
                <a:cubicBezTo>
                  <a:pt x="18432" y="5494"/>
                  <a:pt x="18886" y="5422"/>
                  <a:pt x="19372" y="5407"/>
                </a:cubicBezTo>
                <a:cubicBezTo>
                  <a:pt x="19397" y="5407"/>
                  <a:pt x="19422" y="5407"/>
                  <a:pt x="19447" y="5407"/>
                </a:cubicBezTo>
              </a:path>
              <a:path w="7095" h="2283">
                <a:moveTo>
                  <a:pt x="18306" y="4812"/>
                </a:moveTo>
                <a:cubicBezTo>
                  <a:pt x="18339" y="4726"/>
                  <a:pt x="18333" y="4652"/>
                  <a:pt x="18355" y="4564"/>
                </a:cubicBezTo>
                <a:cubicBezTo>
                  <a:pt x="18363" y="4547"/>
                  <a:pt x="18372" y="4531"/>
                  <a:pt x="18380" y="4514"/>
                </a:cubicBezTo>
                <a:cubicBezTo>
                  <a:pt x="18380" y="4682"/>
                  <a:pt x="18398" y="4844"/>
                  <a:pt x="18405" y="5011"/>
                </a:cubicBezTo>
                <a:cubicBezTo>
                  <a:pt x="18405" y="5019"/>
                  <a:pt x="18405" y="5027"/>
                  <a:pt x="18405" y="5035"/>
                </a:cubicBezTo>
              </a:path>
              <a:path w="7095" h="2283">
                <a:moveTo>
                  <a:pt x="18827" y="5730"/>
                </a:moveTo>
                <a:cubicBezTo>
                  <a:pt x="18712" y="5759"/>
                  <a:pt x="18549" y="5833"/>
                  <a:pt x="18430" y="5879"/>
                </a:cubicBezTo>
                <a:cubicBezTo>
                  <a:pt x="18362" y="5905"/>
                  <a:pt x="18405" y="6125"/>
                  <a:pt x="18405" y="6176"/>
                </a:cubicBezTo>
                <a:cubicBezTo>
                  <a:pt x="18405" y="6193"/>
                  <a:pt x="18405" y="6209"/>
                  <a:pt x="18405" y="6226"/>
                </a:cubicBezTo>
                <a:cubicBezTo>
                  <a:pt x="18536" y="6226"/>
                  <a:pt x="18573" y="6109"/>
                  <a:pt x="18728" y="6152"/>
                </a:cubicBezTo>
                <a:cubicBezTo>
                  <a:pt x="18997" y="6227"/>
                  <a:pt x="18681" y="6536"/>
                  <a:pt x="18554" y="6573"/>
                </a:cubicBezTo>
                <a:cubicBezTo>
                  <a:pt x="18456" y="6601"/>
                  <a:pt x="18360" y="6568"/>
                  <a:pt x="18281" y="6524"/>
                </a:cubicBezTo>
              </a:path>
              <a:path w="7095" h="2283">
                <a:moveTo>
                  <a:pt x="19050" y="5953"/>
                </a:moveTo>
                <a:cubicBezTo>
                  <a:pt x="18930" y="6013"/>
                  <a:pt x="18895" y="6201"/>
                  <a:pt x="18926" y="6350"/>
                </a:cubicBezTo>
                <a:cubicBezTo>
                  <a:pt x="18943" y="6383"/>
                  <a:pt x="18959" y="6416"/>
                  <a:pt x="18976" y="6449"/>
                </a:cubicBezTo>
                <a:cubicBezTo>
                  <a:pt x="19204" y="6436"/>
                  <a:pt x="19354" y="6274"/>
                  <a:pt x="19298" y="6003"/>
                </a:cubicBezTo>
                <a:cubicBezTo>
                  <a:pt x="19265" y="5842"/>
                  <a:pt x="19105" y="5873"/>
                  <a:pt x="19000" y="5879"/>
                </a:cubicBezTo>
              </a:path>
              <a:path w="7095" h="2283">
                <a:moveTo>
                  <a:pt x="19819" y="5358"/>
                </a:moveTo>
                <a:cubicBezTo>
                  <a:pt x="19875" y="5316"/>
                  <a:pt x="19945" y="5333"/>
                  <a:pt x="20017" y="5333"/>
                </a:cubicBezTo>
                <a:cubicBezTo>
                  <a:pt x="20034" y="5333"/>
                  <a:pt x="20050" y="5333"/>
                  <a:pt x="20067" y="5333"/>
                </a:cubicBezTo>
              </a:path>
              <a:path w="7095" h="2283">
                <a:moveTo>
                  <a:pt x="19769" y="5631"/>
                </a:moveTo>
                <a:cubicBezTo>
                  <a:pt x="19859" y="5603"/>
                  <a:pt x="19951" y="5571"/>
                  <a:pt x="20042" y="5556"/>
                </a:cubicBezTo>
              </a:path>
              <a:path w="7095" h="2283">
                <a:moveTo>
                  <a:pt x="20588" y="5829"/>
                </a:moveTo>
                <a:cubicBezTo>
                  <a:pt x="20588" y="5874"/>
                  <a:pt x="20585" y="5887"/>
                  <a:pt x="20613" y="5904"/>
                </a:cubicBezTo>
              </a:path>
              <a:path w="7095" h="2283">
                <a:moveTo>
                  <a:pt x="20985" y="5060"/>
                </a:moveTo>
                <a:cubicBezTo>
                  <a:pt x="21225" y="5060"/>
                  <a:pt x="21267" y="5266"/>
                  <a:pt x="21158" y="5482"/>
                </a:cubicBezTo>
                <a:cubicBezTo>
                  <a:pt x="21024" y="5662"/>
                  <a:pt x="20993" y="5715"/>
                  <a:pt x="20861" y="5779"/>
                </a:cubicBezTo>
                <a:cubicBezTo>
                  <a:pt x="20861" y="5713"/>
                  <a:pt x="20951" y="5377"/>
                  <a:pt x="21109" y="5531"/>
                </a:cubicBezTo>
                <a:cubicBezTo>
                  <a:pt x="21158" y="5579"/>
                  <a:pt x="21233" y="5854"/>
                  <a:pt x="21233" y="5829"/>
                </a:cubicBezTo>
              </a:path>
              <a:path w="7095" h="2283">
                <a:moveTo>
                  <a:pt x="21679" y="5035"/>
                </a:moveTo>
                <a:cubicBezTo>
                  <a:pt x="21509" y="5022"/>
                  <a:pt x="21413" y="5097"/>
                  <a:pt x="21282" y="5209"/>
                </a:cubicBezTo>
                <a:cubicBezTo>
                  <a:pt x="21387" y="5314"/>
                  <a:pt x="21650" y="5398"/>
                  <a:pt x="21654" y="5581"/>
                </a:cubicBezTo>
                <a:cubicBezTo>
                  <a:pt x="21608" y="5696"/>
                  <a:pt x="21599" y="5731"/>
                  <a:pt x="21530" y="5779"/>
                </a:cubicBezTo>
                <a:cubicBezTo>
                  <a:pt x="21506" y="5535"/>
                  <a:pt x="21596" y="5390"/>
                  <a:pt x="21654" y="5159"/>
                </a:cubicBezTo>
                <a:cubicBezTo>
                  <a:pt x="21654" y="5125"/>
                  <a:pt x="21645" y="5112"/>
                  <a:pt x="21605" y="5110"/>
                </a:cubicBezTo>
              </a:path>
              <a:path w="7095" h="2283">
                <a:moveTo>
                  <a:pt x="22002" y="5308"/>
                </a:moveTo>
                <a:cubicBezTo>
                  <a:pt x="22068" y="5308"/>
                  <a:pt x="22134" y="5308"/>
                  <a:pt x="22200" y="5308"/>
                </a:cubicBezTo>
              </a:path>
              <a:path w="7095" h="2283">
                <a:moveTo>
                  <a:pt x="22027" y="5631"/>
                </a:moveTo>
                <a:cubicBezTo>
                  <a:pt x="22095" y="5623"/>
                  <a:pt x="22156" y="5606"/>
                  <a:pt x="22225" y="5606"/>
                </a:cubicBezTo>
              </a:path>
              <a:path w="7095" h="2283">
                <a:moveTo>
                  <a:pt x="22746" y="5110"/>
                </a:moveTo>
                <a:cubicBezTo>
                  <a:pt x="22672" y="5231"/>
                  <a:pt x="22843" y="4987"/>
                  <a:pt x="22895" y="5209"/>
                </a:cubicBezTo>
                <a:cubicBezTo>
                  <a:pt x="22976" y="5554"/>
                  <a:pt x="22758" y="5790"/>
                  <a:pt x="22498" y="5953"/>
                </a:cubicBezTo>
                <a:cubicBezTo>
                  <a:pt x="22548" y="5803"/>
                  <a:pt x="22610" y="5557"/>
                  <a:pt x="22796" y="5755"/>
                </a:cubicBezTo>
                <a:cubicBezTo>
                  <a:pt x="22921" y="5888"/>
                  <a:pt x="22813" y="6207"/>
                  <a:pt x="22920" y="5854"/>
                </a:cubicBezTo>
              </a:path>
              <a:path w="7095" h="2283">
                <a:moveTo>
                  <a:pt x="23192" y="5085"/>
                </a:moveTo>
                <a:cubicBezTo>
                  <a:pt x="23081" y="5141"/>
                  <a:pt x="23049" y="5211"/>
                  <a:pt x="23143" y="5333"/>
                </a:cubicBezTo>
                <a:cubicBezTo>
                  <a:pt x="23319" y="5560"/>
                  <a:pt x="23397" y="5580"/>
                  <a:pt x="23217" y="5829"/>
                </a:cubicBezTo>
                <a:cubicBezTo>
                  <a:pt x="23087" y="5625"/>
                  <a:pt x="23196" y="5455"/>
                  <a:pt x="23242" y="5209"/>
                </a:cubicBezTo>
                <a:cubicBezTo>
                  <a:pt x="23250" y="5166"/>
                  <a:pt x="23221" y="5166"/>
                  <a:pt x="23192" y="5159"/>
                </a:cubicBezTo>
              </a:path>
              <a:path w="7095" h="2283">
                <a:moveTo>
                  <a:pt x="23540" y="4862"/>
                </a:moveTo>
                <a:cubicBezTo>
                  <a:pt x="23464" y="4967"/>
                  <a:pt x="23450" y="5002"/>
                  <a:pt x="23440" y="5135"/>
                </a:cubicBezTo>
                <a:cubicBezTo>
                  <a:pt x="23572" y="5105"/>
                  <a:pt x="23602" y="5046"/>
                  <a:pt x="23614" y="4911"/>
                </a:cubicBezTo>
                <a:cubicBezTo>
                  <a:pt x="23614" y="4849"/>
                  <a:pt x="23625" y="4825"/>
                  <a:pt x="23688" y="4812"/>
                </a:cubicBezTo>
                <a:cubicBezTo>
                  <a:pt x="23985" y="4970"/>
                  <a:pt x="23844" y="5220"/>
                  <a:pt x="23763" y="5507"/>
                </a:cubicBezTo>
                <a:cubicBezTo>
                  <a:pt x="23719" y="5661"/>
                  <a:pt x="23662" y="5784"/>
                  <a:pt x="23614" y="5928"/>
                </a:cubicBezTo>
              </a:path>
              <a:path w="7095" h="2283">
                <a:moveTo>
                  <a:pt x="23961" y="5655"/>
                </a:moveTo>
                <a:cubicBezTo>
                  <a:pt x="23921" y="5744"/>
                  <a:pt x="23912" y="5751"/>
                  <a:pt x="23912" y="5854"/>
                </a:cubicBezTo>
                <a:cubicBezTo>
                  <a:pt x="24007" y="5782"/>
                  <a:pt x="24056" y="5718"/>
                  <a:pt x="23961" y="5655"/>
                </a:cubicBezTo>
              </a:path>
              <a:path w="7095" h="2283">
                <a:moveTo>
                  <a:pt x="24507" y="5606"/>
                </a:moveTo>
                <a:lnTo>
                  <a:pt x="24532" y="5606"/>
                </a:lnTo>
                <a:lnTo>
                  <a:pt x="24532" y="5606"/>
                </a:lnTo>
                <a:lnTo>
                  <a:pt x="24532" y="5606"/>
                </a:lnTo>
                <a:lnTo>
                  <a:pt x="24557" y="5581"/>
                </a:lnTo>
                <a:lnTo>
                  <a:pt x="24532" y="5507"/>
                </a:lnTo>
                <a:lnTo>
                  <a:pt x="24482" y="5407"/>
                </a:lnTo>
                <a:lnTo>
                  <a:pt x="24457" y="5383"/>
                </a:lnTo>
                <a:lnTo>
                  <a:pt x="24383" y="5358"/>
                </a:lnTo>
                <a:lnTo>
                  <a:pt x="24309" y="5407"/>
                </a:lnTo>
                <a:lnTo>
                  <a:pt x="24259" y="5556"/>
                </a:lnTo>
                <a:lnTo>
                  <a:pt x="24284" y="5680"/>
                </a:lnTo>
                <a:lnTo>
                  <a:pt x="24358" y="5755"/>
                </a:lnTo>
                <a:lnTo>
                  <a:pt x="24433" y="5755"/>
                </a:lnTo>
                <a:lnTo>
                  <a:pt x="24507" y="5680"/>
                </a:lnTo>
                <a:lnTo>
                  <a:pt x="24532" y="5531"/>
                </a:lnTo>
                <a:lnTo>
                  <a:pt x="24532" y="5333"/>
                </a:lnTo>
                <a:lnTo>
                  <a:pt x="24482" y="5159"/>
                </a:lnTo>
                <a:lnTo>
                  <a:pt x="24433" y="5060"/>
                </a:lnTo>
                <a:lnTo>
                  <a:pt x="24433" y="5060"/>
                </a:lnTo>
                <a:lnTo>
                  <a:pt x="24433" y="5085"/>
                </a:lnTo>
                <a:lnTo>
                  <a:pt x="24482" y="5283"/>
                </a:lnTo>
                <a:lnTo>
                  <a:pt x="24557" y="5482"/>
                </a:lnTo>
                <a:lnTo>
                  <a:pt x="24581" y="5655"/>
                </a:lnTo>
                <a:lnTo>
                  <a:pt x="24581" y="5730"/>
                </a:lnTo>
                <a:lnTo>
                  <a:pt x="24581" y="5705"/>
                </a:lnTo>
              </a:path>
              <a:path w="7095" h="2283">
                <a:moveTo>
                  <a:pt x="24631" y="5432"/>
                </a:moveTo>
                <a:cubicBezTo>
                  <a:pt x="24691" y="5365"/>
                  <a:pt x="24720" y="5317"/>
                  <a:pt x="24755" y="5234"/>
                </a:cubicBezTo>
                <a:cubicBezTo>
                  <a:pt x="24649" y="5234"/>
                  <a:pt x="24581" y="5250"/>
                  <a:pt x="24581" y="5383"/>
                </a:cubicBezTo>
                <a:cubicBezTo>
                  <a:pt x="24581" y="5614"/>
                  <a:pt x="24716" y="5596"/>
                  <a:pt x="24829" y="5482"/>
                </a:cubicBezTo>
              </a:path>
              <a:path w="7095" h="2283">
                <a:moveTo>
                  <a:pt x="24904" y="5184"/>
                </a:moveTo>
                <a:cubicBezTo>
                  <a:pt x="24953" y="5217"/>
                  <a:pt x="24852" y="5180"/>
                  <a:pt x="24805" y="5333"/>
                </a:cubicBezTo>
                <a:cubicBezTo>
                  <a:pt x="24741" y="5542"/>
                  <a:pt x="24950" y="5505"/>
                  <a:pt x="25053" y="5457"/>
                </a:cubicBezTo>
              </a:path>
              <a:path w="7095" h="2283">
                <a:moveTo>
                  <a:pt x="22845" y="6598"/>
                </a:moveTo>
                <a:cubicBezTo>
                  <a:pt x="22826" y="6446"/>
                  <a:pt x="22837" y="6480"/>
                  <a:pt x="23143" y="6424"/>
                </a:cubicBezTo>
                <a:cubicBezTo>
                  <a:pt x="23718" y="6318"/>
                  <a:pt x="24305" y="6347"/>
                  <a:pt x="24879" y="6251"/>
                </a:cubicBezTo>
                <a:cubicBezTo>
                  <a:pt x="24923" y="6229"/>
                  <a:pt x="24935" y="6226"/>
                  <a:pt x="24954" y="62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5800" y="3544920"/>
            <a:ext cx="866520" cy="973080"/>
          </a:xfrm>
          <a:custGeom>
            <a:avLst/>
            <a:gdLst/>
            <a:ahLst/>
            <a:rect l="l" t="t" r="r" b="b"/>
            <a:pathLst>
              <a:path w="2407" h="2705">
                <a:moveTo>
                  <a:pt x="6226" y="10195"/>
                </a:moveTo>
                <a:cubicBezTo>
                  <a:pt x="6226" y="10158"/>
                  <a:pt x="6182" y="10492"/>
                  <a:pt x="6201" y="10542"/>
                </a:cubicBezTo>
                <a:cubicBezTo>
                  <a:pt x="6282" y="10756"/>
                  <a:pt x="6586" y="10479"/>
                  <a:pt x="6648" y="10418"/>
                </a:cubicBezTo>
              </a:path>
              <a:path w="2407" h="2705">
                <a:moveTo>
                  <a:pt x="6548" y="10170"/>
                </a:moveTo>
                <a:cubicBezTo>
                  <a:pt x="6526" y="10403"/>
                  <a:pt x="6563" y="10691"/>
                  <a:pt x="6499" y="10914"/>
                </a:cubicBezTo>
                <a:cubicBezTo>
                  <a:pt x="6438" y="10914"/>
                  <a:pt x="6443" y="10880"/>
                  <a:pt x="6524" y="10790"/>
                </a:cubicBezTo>
              </a:path>
              <a:path w="2407" h="2705">
                <a:moveTo>
                  <a:pt x="6747" y="10244"/>
                </a:moveTo>
                <a:cubicBezTo>
                  <a:pt x="6872" y="10221"/>
                  <a:pt x="6995" y="10198"/>
                  <a:pt x="7119" y="10170"/>
                </a:cubicBezTo>
                <a:cubicBezTo>
                  <a:pt x="7155" y="10348"/>
                  <a:pt x="7078" y="10500"/>
                  <a:pt x="6995" y="10666"/>
                </a:cubicBezTo>
                <a:cubicBezTo>
                  <a:pt x="6987" y="10683"/>
                  <a:pt x="6978" y="10699"/>
                  <a:pt x="6970" y="10716"/>
                </a:cubicBezTo>
              </a:path>
              <a:path w="2407" h="2705">
                <a:moveTo>
                  <a:pt x="7392" y="10120"/>
                </a:moveTo>
                <a:cubicBezTo>
                  <a:pt x="7348" y="10193"/>
                  <a:pt x="7300" y="10255"/>
                  <a:pt x="7243" y="10319"/>
                </a:cubicBezTo>
                <a:cubicBezTo>
                  <a:pt x="7365" y="10365"/>
                  <a:pt x="7510" y="10361"/>
                  <a:pt x="7640" y="10418"/>
                </a:cubicBezTo>
                <a:cubicBezTo>
                  <a:pt x="7500" y="10661"/>
                  <a:pt x="7418" y="10553"/>
                  <a:pt x="7317" y="10344"/>
                </a:cubicBezTo>
              </a:path>
              <a:path w="2407" h="2705">
                <a:moveTo>
                  <a:pt x="7640" y="9947"/>
                </a:moveTo>
                <a:cubicBezTo>
                  <a:pt x="7759" y="9905"/>
                  <a:pt x="7851" y="9862"/>
                  <a:pt x="7962" y="9872"/>
                </a:cubicBezTo>
              </a:path>
              <a:path w="2407" h="2705">
                <a:moveTo>
                  <a:pt x="5904" y="11261"/>
                </a:moveTo>
                <a:cubicBezTo>
                  <a:pt x="6057" y="11185"/>
                  <a:pt x="6111" y="11159"/>
                  <a:pt x="6226" y="11137"/>
                </a:cubicBezTo>
              </a:path>
              <a:path w="2407" h="2705">
                <a:moveTo>
                  <a:pt x="6424" y="11063"/>
                </a:moveTo>
                <a:cubicBezTo>
                  <a:pt x="6501" y="11039"/>
                  <a:pt x="6930" y="10883"/>
                  <a:pt x="6871" y="11088"/>
                </a:cubicBezTo>
                <a:cubicBezTo>
                  <a:pt x="6806" y="11196"/>
                  <a:pt x="6796" y="11227"/>
                  <a:pt x="6722" y="11261"/>
                </a:cubicBezTo>
                <a:cubicBezTo>
                  <a:pt x="6846" y="11231"/>
                  <a:pt x="6872" y="11238"/>
                  <a:pt x="6970" y="11311"/>
                </a:cubicBezTo>
                <a:cubicBezTo>
                  <a:pt x="6886" y="11425"/>
                  <a:pt x="6683" y="11698"/>
                  <a:pt x="6499" y="11534"/>
                </a:cubicBezTo>
                <a:cubicBezTo>
                  <a:pt x="6499" y="11509"/>
                  <a:pt x="6499" y="11485"/>
                  <a:pt x="6499" y="11460"/>
                </a:cubicBezTo>
              </a:path>
              <a:path w="2407" h="2705">
                <a:moveTo>
                  <a:pt x="7243" y="10914"/>
                </a:moveTo>
                <a:cubicBezTo>
                  <a:pt x="7184" y="10934"/>
                  <a:pt x="7087" y="10977"/>
                  <a:pt x="7069" y="11038"/>
                </a:cubicBezTo>
                <a:cubicBezTo>
                  <a:pt x="7069" y="11046"/>
                  <a:pt x="7069" y="11055"/>
                  <a:pt x="7069" y="11063"/>
                </a:cubicBezTo>
                <a:cubicBezTo>
                  <a:pt x="7224" y="11118"/>
                  <a:pt x="7279" y="11134"/>
                  <a:pt x="7342" y="11286"/>
                </a:cubicBezTo>
                <a:cubicBezTo>
                  <a:pt x="7199" y="11387"/>
                  <a:pt x="7222" y="11351"/>
                  <a:pt x="7045" y="11286"/>
                </a:cubicBezTo>
              </a:path>
              <a:path w="2407" h="2705">
                <a:moveTo>
                  <a:pt x="7243" y="10864"/>
                </a:moveTo>
                <a:cubicBezTo>
                  <a:pt x="7397" y="10815"/>
                  <a:pt x="7552" y="10751"/>
                  <a:pt x="7714" y="10740"/>
                </a:cubicBezTo>
                <a:cubicBezTo>
                  <a:pt x="7722" y="10740"/>
                  <a:pt x="7731" y="10740"/>
                  <a:pt x="7739" y="10740"/>
                </a:cubicBezTo>
                <a:cubicBezTo>
                  <a:pt x="7703" y="10920"/>
                  <a:pt x="7671" y="11055"/>
                  <a:pt x="7689" y="11237"/>
                </a:cubicBezTo>
                <a:cubicBezTo>
                  <a:pt x="7843" y="11204"/>
                  <a:pt x="8103" y="11070"/>
                  <a:pt x="7938" y="10864"/>
                </a:cubicBezTo>
                <a:cubicBezTo>
                  <a:pt x="7800" y="10810"/>
                  <a:pt x="7745" y="10792"/>
                  <a:pt x="7640" y="10790"/>
                </a:cubicBezTo>
              </a:path>
              <a:path w="2407" h="2705">
                <a:moveTo>
                  <a:pt x="6127" y="11956"/>
                </a:moveTo>
                <a:cubicBezTo>
                  <a:pt x="6715" y="11735"/>
                  <a:pt x="7319" y="11555"/>
                  <a:pt x="7938" y="11435"/>
                </a:cubicBezTo>
                <a:cubicBezTo>
                  <a:pt x="8080" y="11407"/>
                  <a:pt x="8110" y="11417"/>
                  <a:pt x="8210" y="11410"/>
                </a:cubicBezTo>
              </a:path>
              <a:path w="2407" h="2705">
                <a:moveTo>
                  <a:pt x="6821" y="12080"/>
                </a:moveTo>
                <a:cubicBezTo>
                  <a:pt x="6821" y="12036"/>
                  <a:pt x="6820" y="12040"/>
                  <a:pt x="6846" y="12005"/>
                </a:cubicBezTo>
                <a:cubicBezTo>
                  <a:pt x="6779" y="11983"/>
                  <a:pt x="6768" y="12244"/>
                  <a:pt x="6747" y="12328"/>
                </a:cubicBezTo>
                <a:cubicBezTo>
                  <a:pt x="6741" y="12351"/>
                  <a:pt x="6592" y="12710"/>
                  <a:pt x="6722" y="12452"/>
                </a:cubicBezTo>
              </a:path>
              <a:path w="2407" h="2705">
                <a:moveTo>
                  <a:pt x="7268" y="11906"/>
                </a:moveTo>
                <a:cubicBezTo>
                  <a:pt x="7456" y="11935"/>
                  <a:pt x="7582" y="12062"/>
                  <a:pt x="7491" y="12278"/>
                </a:cubicBezTo>
                <a:cubicBezTo>
                  <a:pt x="7429" y="12423"/>
                  <a:pt x="7284" y="12410"/>
                  <a:pt x="7169" y="12402"/>
                </a:cubicBezTo>
                <a:cubicBezTo>
                  <a:pt x="7211" y="12235"/>
                  <a:pt x="7347" y="12180"/>
                  <a:pt x="7491" y="12328"/>
                </a:cubicBezTo>
                <a:cubicBezTo>
                  <a:pt x="7532" y="12409"/>
                  <a:pt x="7549" y="12422"/>
                  <a:pt x="7541" y="12477"/>
                </a:cubicBezTo>
              </a:path>
              <a:path w="2407" h="2705">
                <a:moveTo>
                  <a:pt x="8210" y="11832"/>
                </a:moveTo>
                <a:cubicBezTo>
                  <a:pt x="8123" y="11832"/>
                  <a:pt x="8040" y="11834"/>
                  <a:pt x="7962" y="11881"/>
                </a:cubicBezTo>
                <a:cubicBezTo>
                  <a:pt x="7877" y="11932"/>
                  <a:pt x="7888" y="12022"/>
                  <a:pt x="7888" y="12105"/>
                </a:cubicBezTo>
                <a:cubicBezTo>
                  <a:pt x="7994" y="12092"/>
                  <a:pt x="8158" y="12038"/>
                  <a:pt x="8260" y="12105"/>
                </a:cubicBezTo>
                <a:cubicBezTo>
                  <a:pt x="8501" y="12265"/>
                  <a:pt x="8096" y="12391"/>
                  <a:pt x="8012" y="12402"/>
                </a:cubicBezTo>
                <a:cubicBezTo>
                  <a:pt x="7928" y="12402"/>
                  <a:pt x="7901" y="12415"/>
                  <a:pt x="7888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63960" y="4160880"/>
            <a:ext cx="554040" cy="339840"/>
          </a:xfrm>
          <a:custGeom>
            <a:avLst/>
            <a:gdLst/>
            <a:ahLst/>
            <a:rect l="l" t="t" r="r" b="b"/>
            <a:pathLst>
              <a:path w="1539" h="944">
                <a:moveTo>
                  <a:pt x="11410" y="11658"/>
                </a:moveTo>
                <a:cubicBezTo>
                  <a:pt x="11448" y="11696"/>
                  <a:pt x="11391" y="11628"/>
                  <a:pt x="11361" y="11584"/>
                </a:cubicBezTo>
                <a:cubicBezTo>
                  <a:pt x="11180" y="11648"/>
                  <a:pt x="11007" y="11903"/>
                  <a:pt x="11187" y="12105"/>
                </a:cubicBezTo>
                <a:cubicBezTo>
                  <a:pt x="11320" y="12254"/>
                  <a:pt x="11473" y="12143"/>
                  <a:pt x="11609" y="12105"/>
                </a:cubicBezTo>
              </a:path>
              <a:path w="1539" h="944">
                <a:moveTo>
                  <a:pt x="12204" y="11609"/>
                </a:moveTo>
                <a:cubicBezTo>
                  <a:pt x="12323" y="11581"/>
                  <a:pt x="12428" y="11559"/>
                  <a:pt x="12551" y="11559"/>
                </a:cubicBezTo>
              </a:path>
              <a:path w="1539" h="944">
                <a:moveTo>
                  <a:pt x="12328" y="11782"/>
                </a:moveTo>
                <a:cubicBezTo>
                  <a:pt x="12397" y="11752"/>
                  <a:pt x="12423" y="11757"/>
                  <a:pt x="12502" y="11757"/>
                </a:cubicBezTo>
              </a:path>
              <a:path w="1539" h="944">
                <a:moveTo>
                  <a:pt x="11013" y="11782"/>
                </a:moveTo>
                <a:cubicBezTo>
                  <a:pt x="11107" y="11782"/>
                  <a:pt x="11115" y="11756"/>
                  <a:pt x="11137" y="11881"/>
                </a:cubicBezTo>
                <a:cubicBezTo>
                  <a:pt x="11173" y="12085"/>
                  <a:pt x="11187" y="12295"/>
                  <a:pt x="11187" y="12502"/>
                </a:cubicBezTo>
                <a:cubicBezTo>
                  <a:pt x="11187" y="12477"/>
                  <a:pt x="11187" y="12469"/>
                  <a:pt x="11187" y="12452"/>
                </a:cubicBezTo>
              </a:path>
              <a:path w="1539" h="944">
                <a:moveTo>
                  <a:pt x="11038" y="11683"/>
                </a:moveTo>
                <a:cubicBezTo>
                  <a:pt x="11243" y="11573"/>
                  <a:pt x="11441" y="11614"/>
                  <a:pt x="11584" y="11832"/>
                </a:cubicBezTo>
                <a:cubicBezTo>
                  <a:pt x="11689" y="11992"/>
                  <a:pt x="11505" y="12129"/>
                  <a:pt x="11361" y="12129"/>
                </a:cubicBezTo>
                <a:cubicBezTo>
                  <a:pt x="11320" y="12109"/>
                  <a:pt x="11314" y="12101"/>
                  <a:pt x="11286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76840" y="3963960"/>
            <a:ext cx="3144960" cy="600120"/>
          </a:xfrm>
          <a:custGeom>
            <a:avLst/>
            <a:gdLst/>
            <a:ahLst/>
            <a:rect l="l" t="t" r="r" b="b"/>
            <a:pathLst>
              <a:path w="8732" h="1663">
                <a:moveTo>
                  <a:pt x="13618" y="11088"/>
                </a:moveTo>
                <a:cubicBezTo>
                  <a:pt x="13628" y="11327"/>
                  <a:pt x="13580" y="11577"/>
                  <a:pt x="13593" y="11807"/>
                </a:cubicBezTo>
                <a:cubicBezTo>
                  <a:pt x="13601" y="11799"/>
                  <a:pt x="13610" y="11790"/>
                  <a:pt x="13618" y="11782"/>
                </a:cubicBezTo>
              </a:path>
              <a:path w="8732" h="1663">
                <a:moveTo>
                  <a:pt x="14039" y="11088"/>
                </a:moveTo>
                <a:cubicBezTo>
                  <a:pt x="14335" y="11036"/>
                  <a:pt x="14589" y="11156"/>
                  <a:pt x="14461" y="11534"/>
                </a:cubicBezTo>
                <a:cubicBezTo>
                  <a:pt x="14390" y="11742"/>
                  <a:pt x="14236" y="11732"/>
                  <a:pt x="14089" y="11708"/>
                </a:cubicBezTo>
                <a:cubicBezTo>
                  <a:pt x="14157" y="11438"/>
                  <a:pt x="14332" y="11373"/>
                  <a:pt x="14536" y="11633"/>
                </a:cubicBezTo>
                <a:cubicBezTo>
                  <a:pt x="14578" y="11686"/>
                  <a:pt x="14585" y="11900"/>
                  <a:pt x="14585" y="11733"/>
                </a:cubicBezTo>
              </a:path>
              <a:path w="8732" h="1663">
                <a:moveTo>
                  <a:pt x="15056" y="11013"/>
                </a:moveTo>
                <a:cubicBezTo>
                  <a:pt x="14997" y="11035"/>
                  <a:pt x="14914" y="11053"/>
                  <a:pt x="14908" y="11063"/>
                </a:cubicBezTo>
                <a:cubicBezTo>
                  <a:pt x="14851" y="11151"/>
                  <a:pt x="14806" y="11242"/>
                  <a:pt x="14759" y="11336"/>
                </a:cubicBezTo>
                <a:cubicBezTo>
                  <a:pt x="14919" y="11296"/>
                  <a:pt x="15078" y="11234"/>
                  <a:pt x="15180" y="11435"/>
                </a:cubicBezTo>
                <a:cubicBezTo>
                  <a:pt x="15319" y="11708"/>
                  <a:pt x="14966" y="11896"/>
                  <a:pt x="14759" y="11733"/>
                </a:cubicBezTo>
                <a:cubicBezTo>
                  <a:pt x="14742" y="11692"/>
                  <a:pt x="14726" y="11650"/>
                  <a:pt x="14709" y="11609"/>
                </a:cubicBezTo>
              </a:path>
              <a:path w="8732" h="1663">
                <a:moveTo>
                  <a:pt x="13271" y="11956"/>
                </a:moveTo>
                <a:cubicBezTo>
                  <a:pt x="13851" y="11966"/>
                  <a:pt x="14426" y="11961"/>
                  <a:pt x="15007" y="11956"/>
                </a:cubicBezTo>
                <a:cubicBezTo>
                  <a:pt x="15194" y="11954"/>
                  <a:pt x="15160" y="11960"/>
                  <a:pt x="15280" y="11981"/>
                </a:cubicBezTo>
              </a:path>
              <a:path w="8732" h="1663">
                <a:moveTo>
                  <a:pt x="13419" y="12254"/>
                </a:moveTo>
                <a:cubicBezTo>
                  <a:pt x="13532" y="12226"/>
                  <a:pt x="13601" y="12153"/>
                  <a:pt x="13742" y="12179"/>
                </a:cubicBezTo>
                <a:cubicBezTo>
                  <a:pt x="14046" y="12236"/>
                  <a:pt x="13635" y="12439"/>
                  <a:pt x="13568" y="12477"/>
                </a:cubicBezTo>
                <a:cubicBezTo>
                  <a:pt x="13543" y="12477"/>
                  <a:pt x="13519" y="12477"/>
                  <a:pt x="13494" y="12477"/>
                </a:cubicBezTo>
                <a:cubicBezTo>
                  <a:pt x="13562" y="12458"/>
                  <a:pt x="13784" y="12358"/>
                  <a:pt x="13791" y="12526"/>
                </a:cubicBezTo>
                <a:cubicBezTo>
                  <a:pt x="13797" y="12675"/>
                  <a:pt x="13484" y="12722"/>
                  <a:pt x="13395" y="12650"/>
                </a:cubicBezTo>
                <a:cubicBezTo>
                  <a:pt x="13387" y="12625"/>
                  <a:pt x="13378" y="12601"/>
                  <a:pt x="13370" y="12576"/>
                </a:cubicBezTo>
              </a:path>
              <a:path w="8732" h="1663">
                <a:moveTo>
                  <a:pt x="14362" y="12154"/>
                </a:moveTo>
                <a:cubicBezTo>
                  <a:pt x="14299" y="12167"/>
                  <a:pt x="14211" y="12165"/>
                  <a:pt x="14163" y="12204"/>
                </a:cubicBezTo>
                <a:cubicBezTo>
                  <a:pt x="14101" y="12254"/>
                  <a:pt x="14075" y="12290"/>
                  <a:pt x="14039" y="12353"/>
                </a:cubicBezTo>
                <a:cubicBezTo>
                  <a:pt x="14173" y="12353"/>
                  <a:pt x="14334" y="12329"/>
                  <a:pt x="14461" y="12378"/>
                </a:cubicBezTo>
                <a:cubicBezTo>
                  <a:pt x="14494" y="12403"/>
                  <a:pt x="14527" y="12427"/>
                  <a:pt x="14560" y="12452"/>
                </a:cubicBezTo>
                <a:cubicBezTo>
                  <a:pt x="14511" y="12611"/>
                  <a:pt x="14306" y="12746"/>
                  <a:pt x="14114" y="12650"/>
                </a:cubicBezTo>
                <a:cubicBezTo>
                  <a:pt x="14097" y="12617"/>
                  <a:pt x="14081" y="12584"/>
                  <a:pt x="14064" y="12551"/>
                </a:cubicBezTo>
              </a:path>
              <a:path w="8732" h="1663">
                <a:moveTo>
                  <a:pt x="14883" y="12179"/>
                </a:moveTo>
                <a:cubicBezTo>
                  <a:pt x="14798" y="12222"/>
                  <a:pt x="14657" y="12363"/>
                  <a:pt x="14660" y="12477"/>
                </a:cubicBezTo>
                <a:cubicBezTo>
                  <a:pt x="14665" y="12684"/>
                  <a:pt x="15029" y="12716"/>
                  <a:pt x="15131" y="12576"/>
                </a:cubicBezTo>
                <a:cubicBezTo>
                  <a:pt x="15307" y="12333"/>
                  <a:pt x="15055" y="12247"/>
                  <a:pt x="14883" y="12229"/>
                </a:cubicBezTo>
              </a:path>
              <a:path w="8732" h="1663">
                <a:moveTo>
                  <a:pt x="15776" y="11881"/>
                </a:moveTo>
                <a:cubicBezTo>
                  <a:pt x="15901" y="11871"/>
                  <a:pt x="16024" y="11843"/>
                  <a:pt x="16148" y="11832"/>
                </a:cubicBezTo>
              </a:path>
              <a:path w="8732" h="1663">
                <a:moveTo>
                  <a:pt x="15825" y="12055"/>
                </a:moveTo>
                <a:cubicBezTo>
                  <a:pt x="15942" y="12062"/>
                  <a:pt x="16056" y="12073"/>
                  <a:pt x="16173" y="12080"/>
                </a:cubicBezTo>
              </a:path>
              <a:path w="8732" h="1663">
                <a:moveTo>
                  <a:pt x="17016" y="11485"/>
                </a:moveTo>
                <a:cubicBezTo>
                  <a:pt x="16919" y="11413"/>
                  <a:pt x="16825" y="11584"/>
                  <a:pt x="16793" y="11658"/>
                </a:cubicBezTo>
                <a:cubicBezTo>
                  <a:pt x="16689" y="11901"/>
                  <a:pt x="16694" y="12030"/>
                  <a:pt x="16768" y="12254"/>
                </a:cubicBezTo>
                <a:cubicBezTo>
                  <a:pt x="17037" y="12170"/>
                  <a:pt x="17342" y="12043"/>
                  <a:pt x="17264" y="11683"/>
                </a:cubicBezTo>
                <a:cubicBezTo>
                  <a:pt x="17224" y="11498"/>
                  <a:pt x="17083" y="11333"/>
                  <a:pt x="16966" y="11485"/>
                </a:cubicBezTo>
              </a:path>
              <a:path w="8732" h="1663">
                <a:moveTo>
                  <a:pt x="17611" y="12179"/>
                </a:moveTo>
                <a:cubicBezTo>
                  <a:pt x="17619" y="12179"/>
                  <a:pt x="17628" y="12179"/>
                  <a:pt x="17636" y="12179"/>
                </a:cubicBezTo>
              </a:path>
              <a:path w="8732" h="1663">
                <a:moveTo>
                  <a:pt x="17835" y="11509"/>
                </a:moveTo>
                <a:cubicBezTo>
                  <a:pt x="17787" y="11581"/>
                  <a:pt x="17924" y="11458"/>
                  <a:pt x="18008" y="11435"/>
                </a:cubicBezTo>
                <a:cubicBezTo>
                  <a:pt x="18264" y="11366"/>
                  <a:pt x="18050" y="11671"/>
                  <a:pt x="18008" y="11733"/>
                </a:cubicBezTo>
                <a:cubicBezTo>
                  <a:pt x="18000" y="11749"/>
                  <a:pt x="17991" y="11766"/>
                  <a:pt x="17983" y="11782"/>
                </a:cubicBezTo>
                <a:cubicBezTo>
                  <a:pt x="18104" y="11767"/>
                  <a:pt x="18315" y="11775"/>
                  <a:pt x="18231" y="11981"/>
                </a:cubicBezTo>
                <a:cubicBezTo>
                  <a:pt x="18137" y="12209"/>
                  <a:pt x="17916" y="12124"/>
                  <a:pt x="17835" y="12005"/>
                </a:cubicBezTo>
              </a:path>
              <a:path w="8732" h="1663">
                <a:moveTo>
                  <a:pt x="18479" y="11385"/>
                </a:moveTo>
                <a:cubicBezTo>
                  <a:pt x="18479" y="11570"/>
                  <a:pt x="18390" y="11729"/>
                  <a:pt x="18380" y="11906"/>
                </a:cubicBezTo>
                <a:cubicBezTo>
                  <a:pt x="18364" y="12191"/>
                  <a:pt x="18734" y="12067"/>
                  <a:pt x="18852" y="11956"/>
                </a:cubicBezTo>
                <a:cubicBezTo>
                  <a:pt x="18868" y="11923"/>
                  <a:pt x="18885" y="11890"/>
                  <a:pt x="18901" y="11857"/>
                </a:cubicBezTo>
                <a:cubicBezTo>
                  <a:pt x="18744" y="11777"/>
                  <a:pt x="18662" y="11886"/>
                  <a:pt x="18604" y="12055"/>
                </a:cubicBezTo>
                <a:cubicBezTo>
                  <a:pt x="18604" y="12096"/>
                  <a:pt x="18595" y="12113"/>
                  <a:pt x="18628" y="12105"/>
                </a:cubicBezTo>
              </a:path>
              <a:path w="8732" h="1663">
                <a:moveTo>
                  <a:pt x="19496" y="11286"/>
                </a:moveTo>
                <a:cubicBezTo>
                  <a:pt x="19658" y="11268"/>
                  <a:pt x="19707" y="11227"/>
                  <a:pt x="19720" y="11385"/>
                </a:cubicBezTo>
              </a:path>
              <a:path w="8732" h="1663">
                <a:moveTo>
                  <a:pt x="19645" y="11633"/>
                </a:moveTo>
                <a:cubicBezTo>
                  <a:pt x="19719" y="11615"/>
                  <a:pt x="19726" y="11607"/>
                  <a:pt x="19769" y="11609"/>
                </a:cubicBezTo>
              </a:path>
              <a:path w="8732" h="1663">
                <a:moveTo>
                  <a:pt x="20241" y="11261"/>
                </a:moveTo>
                <a:cubicBezTo>
                  <a:pt x="20366" y="11172"/>
                  <a:pt x="20408" y="11161"/>
                  <a:pt x="20538" y="11212"/>
                </a:cubicBezTo>
                <a:cubicBezTo>
                  <a:pt x="20500" y="11356"/>
                  <a:pt x="20470" y="11433"/>
                  <a:pt x="20389" y="11559"/>
                </a:cubicBezTo>
                <a:cubicBezTo>
                  <a:pt x="20524" y="11617"/>
                  <a:pt x="20621" y="11732"/>
                  <a:pt x="20513" y="11881"/>
                </a:cubicBezTo>
                <a:cubicBezTo>
                  <a:pt x="20377" y="12070"/>
                  <a:pt x="20215" y="12028"/>
                  <a:pt x="20166" y="11857"/>
                </a:cubicBezTo>
              </a:path>
              <a:path w="8732" h="1663">
                <a:moveTo>
                  <a:pt x="20861" y="11162"/>
                </a:moveTo>
                <a:cubicBezTo>
                  <a:pt x="20838" y="11334"/>
                  <a:pt x="20665" y="11782"/>
                  <a:pt x="20836" y="11906"/>
                </a:cubicBezTo>
                <a:cubicBezTo>
                  <a:pt x="21051" y="12062"/>
                  <a:pt x="21158" y="11737"/>
                  <a:pt x="21158" y="11609"/>
                </a:cubicBezTo>
                <a:cubicBezTo>
                  <a:pt x="21135" y="11627"/>
                  <a:pt x="20771" y="12039"/>
                  <a:pt x="20935" y="12005"/>
                </a:cubicBezTo>
                <a:cubicBezTo>
                  <a:pt x="20960" y="11980"/>
                  <a:pt x="20985" y="11956"/>
                  <a:pt x="21010" y="11931"/>
                </a:cubicBezTo>
              </a:path>
              <a:path w="8732" h="1663">
                <a:moveTo>
                  <a:pt x="21208" y="11237"/>
                </a:moveTo>
                <a:cubicBezTo>
                  <a:pt x="21188" y="11338"/>
                  <a:pt x="21169" y="11358"/>
                  <a:pt x="21208" y="11410"/>
                </a:cubicBezTo>
                <a:cubicBezTo>
                  <a:pt x="21354" y="11303"/>
                  <a:pt x="21255" y="11171"/>
                  <a:pt x="21357" y="11063"/>
                </a:cubicBezTo>
                <a:cubicBezTo>
                  <a:pt x="21624" y="10780"/>
                  <a:pt x="21738" y="11329"/>
                  <a:pt x="21704" y="11485"/>
                </a:cubicBezTo>
                <a:cubicBezTo>
                  <a:pt x="21678" y="11606"/>
                  <a:pt x="21424" y="11902"/>
                  <a:pt x="21506" y="11881"/>
                </a:cubicBezTo>
              </a:path>
              <a:path w="8732" h="1663">
                <a:moveTo>
                  <a:pt x="21779" y="11782"/>
                </a:moveTo>
                <a:cubicBezTo>
                  <a:pt x="21779" y="11894"/>
                  <a:pt x="21769" y="11929"/>
                  <a:pt x="21853" y="11956"/>
                </a:cubicBezTo>
                <a:cubicBezTo>
                  <a:pt x="21962" y="11870"/>
                  <a:pt x="21990" y="11877"/>
                  <a:pt x="21977" y="11733"/>
                </a:cubicBezTo>
                <a:cubicBezTo>
                  <a:pt x="21837" y="11760"/>
                  <a:pt x="21779" y="11770"/>
                  <a:pt x="21679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197920" y="4000680"/>
            <a:ext cx="544320" cy="258480"/>
          </a:xfrm>
          <a:custGeom>
            <a:avLst/>
            <a:gdLst/>
            <a:ahLst/>
            <a:rect l="l" t="t" r="r" b="b"/>
            <a:pathLst>
              <a:path w="1514" h="721">
                <a:moveTo>
                  <a:pt x="22796" y="11460"/>
                </a:moveTo>
                <a:cubicBezTo>
                  <a:pt x="22796" y="11352"/>
                  <a:pt x="22796" y="11625"/>
                  <a:pt x="22796" y="11733"/>
                </a:cubicBezTo>
                <a:cubicBezTo>
                  <a:pt x="22796" y="11807"/>
                  <a:pt x="22819" y="11863"/>
                  <a:pt x="22771" y="11782"/>
                </a:cubicBezTo>
              </a:path>
              <a:path w="1514" h="721">
                <a:moveTo>
                  <a:pt x="22796" y="11112"/>
                </a:moveTo>
                <a:lnTo>
                  <a:pt x="22796" y="11112"/>
                </a:lnTo>
              </a:path>
              <a:path w="1514" h="721">
                <a:moveTo>
                  <a:pt x="23143" y="11733"/>
                </a:moveTo>
                <a:cubicBezTo>
                  <a:pt x="23162" y="11807"/>
                  <a:pt x="23196" y="11840"/>
                  <a:pt x="23143" y="11832"/>
                </a:cubicBezTo>
                <a:cubicBezTo>
                  <a:pt x="23113" y="11655"/>
                  <a:pt x="23073" y="11458"/>
                  <a:pt x="23292" y="11385"/>
                </a:cubicBezTo>
                <a:cubicBezTo>
                  <a:pt x="23540" y="11302"/>
                  <a:pt x="23547" y="11694"/>
                  <a:pt x="23540" y="11832"/>
                </a:cubicBezTo>
              </a:path>
              <a:path w="1514" h="721">
                <a:moveTo>
                  <a:pt x="23887" y="11361"/>
                </a:moveTo>
                <a:cubicBezTo>
                  <a:pt x="23907" y="11401"/>
                  <a:pt x="23906" y="11417"/>
                  <a:pt x="23937" y="11410"/>
                </a:cubicBezTo>
                <a:cubicBezTo>
                  <a:pt x="23923" y="11340"/>
                  <a:pt x="23878" y="11238"/>
                  <a:pt x="23788" y="11361"/>
                </a:cubicBezTo>
                <a:cubicBezTo>
                  <a:pt x="23609" y="11604"/>
                  <a:pt x="23650" y="11791"/>
                  <a:pt x="23937" y="11832"/>
                </a:cubicBezTo>
                <a:cubicBezTo>
                  <a:pt x="24038" y="11832"/>
                  <a:pt x="24070" y="11853"/>
                  <a:pt x="24085" y="11782"/>
                </a:cubicBezTo>
              </a:path>
              <a:path w="1514" h="721">
                <a:moveTo>
                  <a:pt x="24284" y="11683"/>
                </a:moveTo>
                <a:cubicBezTo>
                  <a:pt x="24284" y="11708"/>
                  <a:pt x="24284" y="11716"/>
                  <a:pt x="24259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of Change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5:51:48Z</dcterms:created>
  <dc:creator>ccps</dc:creator>
  <dc:description/>
  <dc:language>en-US</dc:language>
  <cp:lastModifiedBy>deanne elizabeth mcgrath</cp:lastModifiedBy>
  <dcterms:modified xsi:type="dcterms:W3CDTF">2011-03-24T17:51:44Z</dcterms:modified>
  <cp:revision>8</cp:revision>
  <dc:subject/>
  <dc:title>Obj 7.5:  To find the percent of change.</dc:title>
</cp:coreProperties>
</file>